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92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147d"/>
                </a:solidFill>
                <a:latin typeface="Calibri"/>
              </a:rPr>
              <a:t>Click to move the slide</a:t>
            </a:r>
            <a:endParaRPr b="0" lang="en-US" sz="36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56594-0976-427A-B087-2593514A72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2FFA6-2DC1-4CAE-A087-39553395F2E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8610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92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06440" y="1557000"/>
            <a:ext cx="82058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06440" y="3768480"/>
            <a:ext cx="82058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8610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92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06440" y="1557000"/>
            <a:ext cx="4004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11240" y="1557000"/>
            <a:ext cx="4004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06440" y="3768480"/>
            <a:ext cx="4004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11240" y="3768480"/>
            <a:ext cx="4004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8610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92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06440" y="1557000"/>
            <a:ext cx="2642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80960" y="1557000"/>
            <a:ext cx="2642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55480" y="1557000"/>
            <a:ext cx="2642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06440" y="3768480"/>
            <a:ext cx="2642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80960" y="3768480"/>
            <a:ext cx="2642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55480" y="3768480"/>
            <a:ext cx="2642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8610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92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06440" y="1557000"/>
            <a:ext cx="820584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8610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92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06440" y="1557000"/>
            <a:ext cx="82058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8610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92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06440" y="1557000"/>
            <a:ext cx="40042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11240" y="1557000"/>
            <a:ext cx="40042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8610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92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14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1920" y="304560"/>
            <a:ext cx="86108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8610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92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06440" y="1557000"/>
            <a:ext cx="4004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11240" y="1557000"/>
            <a:ext cx="40042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06440" y="3768480"/>
            <a:ext cx="4004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8610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92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06440" y="1557000"/>
            <a:ext cx="40042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11240" y="1557000"/>
            <a:ext cx="4004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11240" y="3768480"/>
            <a:ext cx="4004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8610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92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06440" y="1557000"/>
            <a:ext cx="4004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11240" y="1557000"/>
            <a:ext cx="4004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6440" y="3768480"/>
            <a:ext cx="82058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8610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92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147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06440" y="1557000"/>
            <a:ext cx="82058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spcBef>
                <a:spcPts val="601"/>
              </a:spcBef>
              <a:buClr>
                <a:srgbClr val="0a57a5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47d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  <a:p>
            <a:pPr lvl="1" marL="673200" indent="-190440">
              <a:spcBef>
                <a:spcPts val="60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47d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  <a:p>
            <a:pPr lvl="2" marL="1054080" indent="-190440">
              <a:spcBef>
                <a:spcPts val="60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47d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  <a:p>
            <a:pPr lvl="3" marL="1434960" indent="-190440">
              <a:spcBef>
                <a:spcPts val="60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47d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  <a:p>
            <a:pPr lvl="4" marL="1816200" indent="-190440">
              <a:spcBef>
                <a:spcPts val="60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47d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  <a:p>
            <a:pPr lvl="5" marL="1816200" indent="-1904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47d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  <a:p>
            <a:pPr lvl="6" marL="1816200" indent="-1904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47d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  <p:pic>
        <p:nvPicPr>
          <p:cNvPr id="2" name="Picture 18" descr=""/>
          <p:cNvPicPr/>
          <p:nvPr/>
        </p:nvPicPr>
        <p:blipFill>
          <a:blip r:embed="rId2"/>
          <a:stretch/>
        </p:blipFill>
        <p:spPr>
          <a:xfrm>
            <a:off x="0" y="6216480"/>
            <a:ext cx="963720" cy="641520"/>
          </a:xfrm>
          <a:prstGeom prst="rect">
            <a:avLst/>
          </a:prstGeom>
          <a:ln w="0">
            <a:noFill/>
          </a:ln>
        </p:spPr>
      </p:pic>
      <p:sp>
        <p:nvSpPr>
          <p:cNvPr id="3" name="TextBox 2"/>
          <p:cNvSpPr/>
          <p:nvPr/>
        </p:nvSpPr>
        <p:spPr>
          <a:xfrm>
            <a:off x="7010280" y="607392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7C868-485B-491B-A032-B46C6FA2C135}" type="slidenum">
              <a:rPr b="0" lang="en-US" sz="1400" spc="-1" strike="noStrike">
                <a:solidFill>
                  <a:srgbClr val="11147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8305920" y="0"/>
            <a:ext cx="838080" cy="6858000"/>
          </a:xfrm>
          <a:prstGeom prst="rect">
            <a:avLst/>
          </a:prstGeom>
          <a:gradFill rotWithShape="0">
            <a:gsLst>
              <a:gs pos="0">
                <a:srgbClr val="01024b"/>
              </a:gs>
              <a:gs pos="100000">
                <a:srgbClr val="090c85"/>
              </a:gs>
            </a:gsLst>
            <a:lin ang="13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762120"/>
            <a:ext cx="457200" cy="6095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609480" y="762120"/>
            <a:ext cx="457200" cy="6095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1298520" y="1090440"/>
            <a:ext cx="2876760" cy="7986960"/>
          </a:xfrm>
          <a:prstGeom prst="rect">
            <a:avLst/>
          </a:prstGeom>
          <a:ln w="0">
            <a:noFill/>
          </a:ln>
        </p:spPr>
      </p:pic>
      <p:sp>
        <p:nvSpPr>
          <p:cNvPr id="52" name="Title 1"/>
          <p:cNvSpPr/>
          <p:nvPr/>
        </p:nvSpPr>
        <p:spPr>
          <a:xfrm>
            <a:off x="4191120" y="2666880"/>
            <a:ext cx="40003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178560" indent="-1785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CHAPT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8560" indent="-1785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ATEGIC INTERNATIONAL HUMAN RESOURCE MANAGE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19080" y="-360"/>
            <a:ext cx="9144000" cy="121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marL="192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IHRM STRATEGY</a:t>
            </a:r>
            <a:br>
              <a:rPr sz="3200"/>
            </a:br>
            <a:br>
              <a:rPr sz="3200"/>
            </a:br>
            <a:endParaRPr b="0" lang="en-US" sz="28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61800" y="13716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spcBef>
                <a:spcPts val="201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HRM Strategy Formulation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lvl="1" marL="673200" indent="-19044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entral trade-off pits pressures for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centralizatio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against the need for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decentralization</a:t>
            </a: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  <a:p>
            <a:pPr lvl="2" marL="1054080" indent="-190440">
              <a:lnSpc>
                <a:spcPct val="100000"/>
              </a:lnSpc>
              <a:spcBef>
                <a:spcPts val="400"/>
              </a:spcBef>
              <a:buClr>
                <a:srgbClr val="0a57a5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entralization is very similar to the notion of integration </a:t>
            </a:r>
            <a:endParaRPr b="0" lang="en-US" sz="1600" spc="-1" strike="noStrike">
              <a:solidFill>
                <a:srgbClr val="1a137b"/>
              </a:solidFill>
              <a:latin typeface="Calibri"/>
            </a:endParaRPr>
          </a:p>
          <a:p>
            <a:pPr lvl="2" marL="1054080" indent="-190440">
              <a:lnSpc>
                <a:spcPct val="100000"/>
              </a:lnSpc>
              <a:spcBef>
                <a:spcPts val="400"/>
              </a:spcBef>
              <a:buClr>
                <a:srgbClr val="0a57a5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centralization is similar to the notion of local responsiveness </a:t>
            </a:r>
            <a:endParaRPr b="0" lang="en-US" sz="1600" spc="-1" strike="noStrike">
              <a:solidFill>
                <a:srgbClr val="1a137b"/>
              </a:solidFill>
              <a:latin typeface="Calibri"/>
            </a:endParaRPr>
          </a:p>
          <a:p>
            <a:pPr lvl="2" marL="1054080" indent="-190440">
              <a:lnSpc>
                <a:spcPct val="100000"/>
              </a:lnSpc>
              <a:spcBef>
                <a:spcPts val="176"/>
              </a:spcBef>
              <a:buClr>
                <a:srgbClr val="0a57a5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a137b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vergence 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lvl="1" marL="673200" indent="-19044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se of parent-company policies and procedures throughout a firm’s global operations</a:t>
            </a: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  <a:p>
            <a:pPr lvl="1" marL="673200" indent="-190440">
              <a:lnSpc>
                <a:spcPct val="100000"/>
              </a:lnSpc>
              <a:spcBef>
                <a:spcPts val="176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a137b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vergence 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lvl="1" marL="673200" indent="-19044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ultural and institutional differences play a role in the matter</a:t>
            </a: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19080" y="-360"/>
            <a:ext cx="9144000" cy="121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marL="192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IHRM Strategies and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NE Business Strategies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49280" y="1599840"/>
            <a:ext cx="820728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overall effectiveness of an IHRM strategy is contingent on the context in which it is used 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IHRM strategy’s effect on organizational effectiveness is always dependent on how well the IHRM strategy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fit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ith, and supports, a MNE’s business strategy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19080" y="-360"/>
            <a:ext cx="9144000" cy="121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marL="192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IHRM Strategies and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NE Business Strategies (CONT.)</a:t>
            </a:r>
            <a:br>
              <a:rPr sz="2800"/>
            </a:br>
            <a:br>
              <a:rPr sz="2800"/>
            </a:br>
            <a:br>
              <a:rPr sz="3200"/>
            </a:br>
            <a:br>
              <a:rPr sz="3200"/>
            </a:br>
            <a:endParaRPr b="0" lang="en-US" sz="2800" spc="-1" strike="noStrike">
              <a:solidFill>
                <a:srgbClr val="11147d"/>
              </a:solidFill>
              <a:latin typeface="Calibri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916280" y="1347840"/>
          <a:ext cx="5524200" cy="4556160"/>
        </p:xfrm>
        <a:graphic>
          <a:graphicData uri="http://schemas.openxmlformats.org/drawingml/2006/table">
            <a:tbl>
              <a:tblPr/>
              <a:tblGrid>
                <a:gridCol w="2689200"/>
                <a:gridCol w="2835000"/>
              </a:tblGrid>
              <a:tr h="2469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cep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ach subsidiary is tightly connected with headquarters with very little freedom to adapt to the local condition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0f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ctive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 MNE with this type of IHRM strategy is more likely have a transition HR function with considerably more control over HR decision making than autonomous IHRM strategy but less than in a receptive IHRM strategy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0fc"/>
                    </a:solidFill>
                  </a:tcPr>
                </a:tc>
              </a:tr>
              <a:tr h="208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utonom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ach subsidiary has the freedom to develop and implement its own IHRM policies and practices that support local rules and condi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e"/>
                    </a:solidFill>
                  </a:tcPr>
                </a:tc>
              </a:tr>
            </a:tbl>
          </a:graphicData>
        </a:graphic>
      </p:graphicFrame>
      <p:sp>
        <p:nvSpPr>
          <p:cNvPr id="79" name="Up Arrow 3"/>
          <p:cNvSpPr/>
          <p:nvPr/>
        </p:nvSpPr>
        <p:spPr>
          <a:xfrm>
            <a:off x="384120" y="1828800"/>
            <a:ext cx="380880" cy="2666880"/>
          </a:xfrm>
          <a:prstGeom prst="upArrow">
            <a:avLst>
              <a:gd name="adj1" fmla="val 50000"/>
              <a:gd name="adj2" fmla="val 50018"/>
            </a:avLst>
          </a:prstGeom>
          <a:gradFill rotWithShape="0">
            <a:gsLst>
              <a:gs pos="0">
                <a:srgbClr val="808c94"/>
              </a:gs>
              <a:gs pos="100000">
                <a:srgbClr val="dcf0fe"/>
              </a:gs>
            </a:gsLst>
            <a:lin ang="81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ight Arrow 4"/>
          <p:cNvSpPr/>
          <p:nvPr/>
        </p:nvSpPr>
        <p:spPr>
          <a:xfrm>
            <a:off x="3048120" y="6146640"/>
            <a:ext cx="2895480" cy="381240"/>
          </a:xfrm>
          <a:prstGeom prst="rightArrow">
            <a:avLst>
              <a:gd name="adj1" fmla="val 50000"/>
              <a:gd name="adj2" fmla="val 49965"/>
            </a:avLst>
          </a:prstGeom>
          <a:gradFill rotWithShape="0">
            <a:gsLst>
              <a:gs pos="0">
                <a:srgbClr val="808c94"/>
              </a:gs>
              <a:gs pos="100000">
                <a:srgbClr val="dcf0fe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Box 5"/>
          <p:cNvSpPr/>
          <p:nvPr/>
        </p:nvSpPr>
        <p:spPr>
          <a:xfrm>
            <a:off x="647640" y="31240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Integ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Box 6"/>
          <p:cNvSpPr/>
          <p:nvPr/>
        </p:nvSpPr>
        <p:spPr>
          <a:xfrm>
            <a:off x="3462480" y="5904000"/>
            <a:ext cx="255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Local Responsivenes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19080" y="-360"/>
            <a:ext cx="9144000" cy="121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marL="192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search on SIHRM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49280" y="1447920"/>
            <a:ext cx="8207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isting Research on SIHRM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201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1147d"/>
              </a:solidFill>
              <a:latin typeface="Calibri"/>
            </a:endParaRPr>
          </a:p>
          <a:p>
            <a:pPr lvl="1" marL="673200" indent="-19044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cal culture and national managerial orientation influence the nature of HR practice</a:t>
            </a: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  <a:p>
            <a:pPr lvl="1" marL="673200" indent="-19044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  <a:p>
            <a:pPr lvl="1" marL="673200" indent="-19044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degree of global mindset influences the nature of an MNE’s global strategy</a:t>
            </a: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  <a:p>
            <a:pPr lvl="1" marL="673200" indent="-19044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  <a:p>
            <a:pPr lvl="1" marL="673200" indent="-19044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lobal strategy influences the degree of global focus in the HR strategy </a:t>
            </a: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  <a:p>
            <a:pPr lvl="1" marL="673200" indent="-19044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  <a:p>
            <a:pPr lvl="1" marL="673200" indent="-19044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ropriate global HR practices are associated with better organizational performance</a:t>
            </a: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19080" y="-360"/>
            <a:ext cx="9144000" cy="121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marL="192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ODELS/FRAMEWORKS FOR UNDERSTANDING SIHRM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49280" y="1523520"/>
            <a:ext cx="82072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an effort to understand the role of IHRM in MNEs, scholars and researchers have suggested several SIHRM models or frameworks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model has five parts: 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34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1147d"/>
              </a:solidFill>
              <a:latin typeface="Calibri"/>
            </a:endParaRPr>
          </a:p>
          <a:p>
            <a:pPr lvl="1" marL="939960" indent="-45720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rategic MNE components </a:t>
            </a: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  <a:p>
            <a:pPr lvl="1" marL="939960" indent="-45720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ogenous factors </a:t>
            </a: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  <a:p>
            <a:pPr lvl="1" marL="939960" indent="-45720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dogenous factors</a:t>
            </a: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  <a:p>
            <a:pPr lvl="1" marL="939960" indent="-45720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HRM issues, functions, and policies and practices </a:t>
            </a: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  <a:p>
            <a:pPr lvl="1" marL="939960" indent="-45720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NE concerns and goals</a:t>
            </a: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marL="192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EARNING OBJECTIVES</a:t>
            </a:r>
            <a:endParaRPr b="0" lang="en-US" sz="32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06440" y="1371240"/>
            <a:ext cx="82058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cribe the development of SIHRM and the process of international strategic management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cribe the evolution of the MNE in terms of various stages of internationalization and the methods firms use to enter international markets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cribe the process for developing MNE strategy and IHRM strategy and the relationship between the two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extent and nature of research into the practice of SIHRM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marL="192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TRATEGIC INTERNATIONAL HUMAN RESOURCE MANAGEMENT</a:t>
            </a:r>
            <a:endParaRPr b="0" lang="en-US" sz="28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06440" y="1557000"/>
            <a:ext cx="820584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HRM focuses on creating and implementing IHRM policies and practices that help achieve an MNE’s international strategy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volves the strategic management of the IHR function and department itself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an ideal world, a firm conducting international business will be actively engaged in strategic planning and strategic management process on a global basis (see Figure 2.1)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strategy signals an organization’s commitment to specific markets, competitive approaches, and ways of operating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marL="192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EVOLUTION OF TH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ULTINATIONAL ENTERPRISE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8088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 a firm internationalizes, it moves through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tages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each stage it must make a choice of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methods for market entry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each stage, the degree of international activity increases and IHRM responsibilities become increasingly complex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19080" y="-360"/>
            <a:ext cx="9144000" cy="121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marL="192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TERNATIONALIZATION PROCESS AND METHODS FOR MARKET ENTRY WITHIN THE FIVE STAGES </a:t>
            </a:r>
            <a:br>
              <a:rPr sz="3200"/>
            </a:br>
            <a:br>
              <a:rPr sz="3200"/>
            </a:b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  <p:pic>
        <p:nvPicPr>
          <p:cNvPr id="60" name="Picture 8" descr=""/>
          <p:cNvPicPr/>
          <p:nvPr/>
        </p:nvPicPr>
        <p:blipFill>
          <a:blip r:embed="rId1"/>
          <a:stretch/>
        </p:blipFill>
        <p:spPr>
          <a:xfrm>
            <a:off x="506520" y="1163520"/>
            <a:ext cx="8094600" cy="50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19080" y="-360"/>
            <a:ext cx="9144000" cy="121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marL="192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NE BUSINESS STRATEGY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8088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des a direction for managing various subsidiaries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lvl="1" marL="673200" indent="-19044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imarily guided by the extent of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integratio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and/or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local responsivenes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required by the firm to manage its worldwide operations</a:t>
            </a: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gratio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11147d"/>
              </a:solidFill>
              <a:latin typeface="Calibri"/>
            </a:endParaRPr>
          </a:p>
          <a:p>
            <a:pPr lvl="1" marL="673200" indent="-19044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fined as the extent to which the subsidiaries and the headquarters develop a unified whole</a:t>
            </a: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cal responsiveness 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lvl="1" marL="673200" indent="-19044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fined as the extent to which subsidiaries respond to local differences</a:t>
            </a: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19080" y="-360"/>
            <a:ext cx="9144000" cy="121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marL="192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YPES OF STRATEGIC BUSINESS APPROACHES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11147d"/>
              </a:solidFill>
              <a:latin typeface="Calibri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828800" y="1600200"/>
          <a:ext cx="5257800" cy="3673440"/>
        </p:xfrm>
        <a:graphic>
          <a:graphicData uri="http://schemas.openxmlformats.org/drawingml/2006/table">
            <a:tbl>
              <a:tblPr/>
              <a:tblGrid>
                <a:gridCol w="2558880"/>
                <a:gridCol w="2698920"/>
              </a:tblGrid>
              <a:tr h="2073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lob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nified strategy implemented for all countries regardless of their cultural and national differ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0f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ransn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ximizes responsiveness and integration by being global and multi-domestic at the same 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0fc"/>
                    </a:solidFill>
                  </a:tcPr>
                </a:tc>
              </a:tr>
              <a:tr h="1600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tern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implest business strategy, requiring limited local responsiveness and limited integratio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ulti-Domest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sponds to the high needs, values, and demands of a local mark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e"/>
                    </a:solidFill>
                  </a:tcPr>
                </a:tc>
              </a:tr>
            </a:tbl>
          </a:graphicData>
        </a:graphic>
      </p:graphicFrame>
      <p:sp>
        <p:nvSpPr>
          <p:cNvPr id="65" name="Up Arrow 3"/>
          <p:cNvSpPr/>
          <p:nvPr/>
        </p:nvSpPr>
        <p:spPr>
          <a:xfrm>
            <a:off x="457200" y="1828800"/>
            <a:ext cx="380880" cy="2666880"/>
          </a:xfrm>
          <a:prstGeom prst="upArrow">
            <a:avLst>
              <a:gd name="adj1" fmla="val 50000"/>
              <a:gd name="adj2" fmla="val 50018"/>
            </a:avLst>
          </a:prstGeom>
          <a:gradFill rotWithShape="0">
            <a:gsLst>
              <a:gs pos="0">
                <a:srgbClr val="808c94"/>
              </a:gs>
              <a:gs pos="100000">
                <a:srgbClr val="dcf0fe"/>
              </a:gs>
            </a:gsLst>
            <a:lin ang="81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ight Arrow 4"/>
          <p:cNvSpPr/>
          <p:nvPr/>
        </p:nvSpPr>
        <p:spPr>
          <a:xfrm>
            <a:off x="3048120" y="5791320"/>
            <a:ext cx="2895480" cy="380880"/>
          </a:xfrm>
          <a:prstGeom prst="rightArrow">
            <a:avLst>
              <a:gd name="adj1" fmla="val 50000"/>
              <a:gd name="adj2" fmla="val 50012"/>
            </a:avLst>
          </a:prstGeom>
          <a:gradFill rotWithShape="0">
            <a:gsLst>
              <a:gs pos="0">
                <a:srgbClr val="808c94"/>
              </a:gs>
              <a:gs pos="100000">
                <a:srgbClr val="dcf0fe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Box 5"/>
          <p:cNvSpPr/>
          <p:nvPr/>
        </p:nvSpPr>
        <p:spPr>
          <a:xfrm>
            <a:off x="762120" y="3124080"/>
            <a:ext cx="110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Arial"/>
              </a:rPr>
              <a:t>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Box 6"/>
          <p:cNvSpPr/>
          <p:nvPr/>
        </p:nvSpPr>
        <p:spPr>
          <a:xfrm>
            <a:off x="3352680" y="5486400"/>
            <a:ext cx="224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Arial"/>
              </a:rPr>
              <a:t>Local Responsiven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19080" y="-360"/>
            <a:ext cx="9144000" cy="121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marL="192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HEADQUARTERS’ INTERNATIONAL ORIENTATION AND MNE BUSINESS STRATEGY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11147d"/>
              </a:solidFill>
              <a:latin typeface="Calibri"/>
            </a:endParaRPr>
          </a:p>
        </p:txBody>
      </p:sp>
      <p:pic>
        <p:nvPicPr>
          <p:cNvPr id="70" name="Content Placeholder 5" descr=""/>
          <p:cNvPicPr/>
          <p:nvPr/>
        </p:nvPicPr>
        <p:blipFill>
          <a:blip r:embed="rId1"/>
          <a:stretch/>
        </p:blipFill>
        <p:spPr>
          <a:xfrm>
            <a:off x="506520" y="1523880"/>
            <a:ext cx="809460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19080" y="-360"/>
            <a:ext cx="9144000" cy="121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marL="192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HE ORIENTATION OF SENIOR EXECUTIVES</a:t>
            </a:r>
            <a:br>
              <a:rPr sz="3200"/>
            </a:br>
            <a:endParaRPr b="0" lang="en-US" sz="28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61800" y="13712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thnocentrism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lvl="1" marL="673200" indent="-19044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nagers use a home-country standard as a reference in managing international activities</a:t>
            </a: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  <a:p>
            <a:pPr lvl="1" marL="673200" indent="-19044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lycentrism or Regiocentrism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lvl="1" marL="673200" indent="-19044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ost-country cultures and practices assume increased salience for managers</a:t>
            </a: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  <a:p>
            <a:pPr lvl="1" marL="673200" indent="-19044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ocentrism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lvl="1" marL="673200" indent="-19044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nagers’ outlook is one of creating a global network among various elements of the global organization</a:t>
            </a: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2T16:51:13Z</dcterms:created>
  <dc:creator>szilagyij</dc:creator>
  <dc:description/>
  <dc:language>en-US</dc:language>
  <cp:lastModifiedBy>Windows User</cp:lastModifiedBy>
  <dcterms:modified xsi:type="dcterms:W3CDTF">2015-08-14T17:11:41Z</dcterms:modified>
  <cp:revision>127</cp:revision>
  <dc:subject/>
  <dc:title>Slide 1</dc:title>
</cp:coreProperties>
</file>