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3AE7-6478-4783-A4EA-9581B8A27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A988-42B3-4713-B1B5-731B818B7E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096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5480" y="155700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44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096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5480" y="3768480"/>
            <a:ext cx="2642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610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1240" y="376848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1240" y="1557000"/>
            <a:ext cx="4004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768480"/>
            <a:ext cx="8205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2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47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557000"/>
            <a:ext cx="8205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a57a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2" marL="105408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3" marL="143496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4" marL="1816200" indent="-190440">
              <a:spcBef>
                <a:spcPts val="60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5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  <a:p>
            <a:pPr lvl="6" marL="1816200" indent="-1904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47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2" name="Picture 18" descr=""/>
          <p:cNvPicPr/>
          <p:nvPr/>
        </p:nvPicPr>
        <p:blipFill>
          <a:blip r:embed="rId2"/>
          <a:stretch/>
        </p:blipFill>
        <p:spPr>
          <a:xfrm>
            <a:off x="0" y="6216480"/>
            <a:ext cx="963720" cy="641520"/>
          </a:xfrm>
          <a:prstGeom prst="rect">
            <a:avLst/>
          </a:prstGeom>
          <a:ln w="0">
            <a:noFill/>
          </a:ln>
        </p:spPr>
      </p:pic>
      <p:sp>
        <p:nvSpPr>
          <p:cNvPr id="3" name="TextBox 2"/>
          <p:cNvSpPr/>
          <p:nvPr/>
        </p:nvSpPr>
        <p:spPr>
          <a:xfrm>
            <a:off x="7010280" y="6073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3499-A51D-4BC4-99F3-331458E78C25}" type="slidenum">
              <a:rPr b="0" lang="en-US" sz="1400" spc="-1" strike="noStrike">
                <a:solidFill>
                  <a:srgbClr val="1114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01024b"/>
              </a:gs>
              <a:gs pos="100000">
                <a:srgbClr val="090c85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09480" y="762120"/>
            <a:ext cx="4572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298520" y="1090440"/>
            <a:ext cx="2876760" cy="7986960"/>
          </a:xfrm>
          <a:prstGeom prst="rect">
            <a:avLst/>
          </a:prstGeom>
          <a:ln w="0">
            <a:noFill/>
          </a:ln>
        </p:spPr>
      </p:pic>
      <p:sp>
        <p:nvSpPr>
          <p:cNvPr id="52" name="Title 1"/>
          <p:cNvSpPr/>
          <p:nvPr/>
        </p:nvSpPr>
        <p:spPr>
          <a:xfrm>
            <a:off x="4191120" y="2666880"/>
            <a:ext cx="4000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560" indent="-17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C INTERNATIONAL HUMAN RESOURCE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Y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180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HRM Strategy Formulation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ntral trade-off pits pressures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raliz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gainst the need f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entral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ralization is very similar to the notion of integration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entralization is similar to the notion of local responsiveness </a:t>
            </a:r>
            <a:endParaRPr b="0" lang="en-US" sz="1600" spc="-1" strike="noStrike">
              <a:solidFill>
                <a:srgbClr val="1a137b"/>
              </a:solidFill>
              <a:latin typeface="Calibri"/>
            </a:endParaRPr>
          </a:p>
          <a:p>
            <a:pPr lvl="2" marL="105408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of parent-company policies and procedures throughout a firm’s global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176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ergence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ltural and institutional differences play a role in the matter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9280" y="1599840"/>
            <a:ext cx="82072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verall effectiveness of an IHRM strategy is contingent on the context in which it is used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HRM strategy’s effect on organizational effectiveness is always dependent on how well the IHRM strateg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, and supports, a MNE’s business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HRM Strategie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ies (CONT.)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16280" y="1347840"/>
          <a:ext cx="5524200" cy="4556160"/>
        </p:xfrm>
        <a:graphic>
          <a:graphicData uri="http://schemas.openxmlformats.org/drawingml/2006/table">
            <a:tbl>
              <a:tblPr/>
              <a:tblGrid>
                <a:gridCol w="2689200"/>
                <a:gridCol w="2835000"/>
              </a:tblGrid>
              <a:tr h="24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ep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is tightly connected with headquarters with very little freedom to adapt to the local condi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MNE with this type of IHRM strategy is more likely have a transition HR function with considerably more control over HR decision making than autonomous IHRM strategy but less than in a receptive IHRM strateg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208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nom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ch subsidiary has the freedom to develop and implement its own IHRM policies and practices that support local rules and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79" name="Up Arrow 3"/>
          <p:cNvSpPr/>
          <p:nvPr/>
        </p:nvSpPr>
        <p:spPr>
          <a:xfrm>
            <a:off x="38412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ight Arrow 4"/>
          <p:cNvSpPr/>
          <p:nvPr/>
        </p:nvSpPr>
        <p:spPr>
          <a:xfrm>
            <a:off x="3048120" y="6146640"/>
            <a:ext cx="2895480" cy="381240"/>
          </a:xfrm>
          <a:prstGeom prst="rightArrow">
            <a:avLst>
              <a:gd name="adj1" fmla="val 50000"/>
              <a:gd name="adj2" fmla="val 49965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647640" y="3124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3462480" y="5904000"/>
            <a:ext cx="25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arch on SIHRM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280" y="144792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Research on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20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 culture and national managerial orientation influence the nature of HR practi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egree of global mindset influences the nature of an MNE’s global strategy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obal strategy influences the degree of global focus in the HR strategy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priate global HR practices are associated with better organizational performanc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ELS/FRAMEWORKS FOR UNDERSTANDING SIHRM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9280" y="1523520"/>
            <a:ext cx="820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effort to understand the role of IHRM in MNEs, scholars and researchers have suggested several SIHRM models or framework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has five parts: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47d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egic MNE component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ogenous factor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ogenous facto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HRM issues, functions, and policies and practices 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939960" indent="-45720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E concerns and goal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ARNING OBJECTIVES</a:t>
            </a:r>
            <a:endParaRPr b="0" lang="en-US" sz="32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6440" y="1371240"/>
            <a:ext cx="8205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evelopment of SIHRM and the process of international strategic management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evolution of the MNE in terms of various stages of internationalization and the methods firms use to enter international market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process for developing MNE strategy and IHRM strategy and the relationship between the two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tent and nature of research into the practice of SIHR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ATEGIC INTERNATIONAL HUMAN RESOURCE MANAGEMENT</a:t>
            </a: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6440" y="1557000"/>
            <a:ext cx="8205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HRM focuses on creating and implementing IHRM policies and practices that help achieve an MNE’s international strateg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s the strategic management of the IHR function and department itself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n ideal world, a firm conducting international business will be actively engaged in strategic planning and strategic management process on a global basis (see Figure 2.1)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signals an organization’s commitment to specific markets, competitive approaches, and ways of operating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OLUTION OF TH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ULTINATIONAL ENTERPRIS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 firm internationalizes, it moves throug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ach stage it must make a choice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thods for market entry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each stage, the degree of international activity increases and IHRM responsibilities become increasingly complex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IZATION PROCESS AND METHODS FOR MARKET ENTRY WITHIN THE FIVE STAGES 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506520" y="1163520"/>
            <a:ext cx="80946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direction for managing various subsidiaries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arily guided by the extent o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/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 responsivene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quired by the firm to manage its worldwide operation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the subsidiaries and the headquarters develop a unified whole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47d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responsiveness 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the extent to which subsidiaries respond to local differenc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YPES OF STRATEGIC BUSINESS APPROACH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28800" y="1600200"/>
          <a:ext cx="5257800" cy="3673440"/>
        </p:xfrm>
        <a:graphic>
          <a:graphicData uri="http://schemas.openxmlformats.org/drawingml/2006/table">
            <a:tbl>
              <a:tblPr/>
              <a:tblGrid>
                <a:gridCol w="2558880"/>
                <a:gridCol w="2698920"/>
              </a:tblGrid>
              <a:tr h="20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fied strategy implemented for all countries regardless of their cultural and national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ns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ximizes responsiveness and integration by being global and multi-domestic at the sam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0fc"/>
                    </a:solidFill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mplest business strategy, requiring limited local responsiveness and limited integ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ulti-Dome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ds to the high needs, values, and demands of a local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e"/>
                    </a:solidFill>
                  </a:tcPr>
                </a:tc>
              </a:tr>
            </a:tbl>
          </a:graphicData>
        </a:graphic>
      </p:graphicFrame>
      <p:sp>
        <p:nvSpPr>
          <p:cNvPr id="65" name="Up Arrow 3"/>
          <p:cNvSpPr/>
          <p:nvPr/>
        </p:nvSpPr>
        <p:spPr>
          <a:xfrm>
            <a:off x="457200" y="1828800"/>
            <a:ext cx="380880" cy="2666880"/>
          </a:xfrm>
          <a:prstGeom prst="up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ight Arrow 4"/>
          <p:cNvSpPr/>
          <p:nvPr/>
        </p:nvSpPr>
        <p:spPr>
          <a:xfrm>
            <a:off x="3048120" y="5791320"/>
            <a:ext cx="2895480" cy="380880"/>
          </a:xfrm>
          <a:prstGeom prst="right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808c94"/>
              </a:gs>
              <a:gs pos="100000">
                <a:srgbClr val="dcf0f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762120" y="312408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352680" y="5486400"/>
            <a:ext cx="22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Local Responsive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EADQUARTERS’ INTERNATIONAL ORIENTATION AND MNE BUSINESS STRATEGY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pic>
        <p:nvPicPr>
          <p:cNvPr id="70" name="Content Placeholder 5" descr=""/>
          <p:cNvPicPr/>
          <p:nvPr/>
        </p:nvPicPr>
        <p:blipFill>
          <a:blip r:embed="rId1"/>
          <a:stretch/>
        </p:blipFill>
        <p:spPr>
          <a:xfrm>
            <a:off x="506520" y="1523880"/>
            <a:ext cx="8094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9080" y="-360"/>
            <a:ext cx="914400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marL="192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ORIENTATION OF SENIOR EXECUTIVES</a:t>
            </a:r>
            <a:br>
              <a:rPr sz="3200"/>
            </a:br>
            <a:endParaRPr b="0" lang="en-US" sz="2800" spc="-1" strike="noStrike">
              <a:solidFill>
                <a:srgbClr val="1114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180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n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 use a home-country standard as a reference in managing international activitie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ycentrism or Regi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st-country cultures and practices assume increased salience for managers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a57a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centrism</a:t>
            </a:r>
            <a:endParaRPr b="0" lang="en-US" sz="2000" spc="-1" strike="noStrike">
              <a:solidFill>
                <a:srgbClr val="11147d"/>
              </a:solidFill>
              <a:latin typeface="Calibri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a57a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rs’ outlook is one of creating a global network among various elements of the global organization</a:t>
            </a:r>
            <a:endParaRPr b="0" lang="en-US" sz="1800" spc="-1" strike="noStrike">
              <a:solidFill>
                <a:srgbClr val="1a13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51:13Z</dcterms:created>
  <dc:creator>szilagyij</dc:creator>
  <dc:description/>
  <dc:language>en-US</dc:language>
  <cp:lastModifiedBy>Windows User</cp:lastModifiedBy>
  <dcterms:modified xsi:type="dcterms:W3CDTF">2015-08-14T17:11:41Z</dcterms:modified>
  <cp:revision>127</cp:revision>
  <dc:subject/>
  <dc:title>Slide 1</dc:title>
</cp:coreProperties>
</file>