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127-5F76-4040-A264-6947ABDA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E2E-AC9B-40A6-992E-A5C02B34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199-8EB2-4D8E-9C98-0000A5B7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A4B-DD10-405E-898B-2F2FFB8A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6F1-A5F6-49C0-9D1B-BF4205C0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1B7-FF4E-4F45-AE2E-319C8D81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975-C3DD-4A11-8EC6-116EAE08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CC1-1E74-4E0F-9655-126B7E65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F0F-945A-490B-8640-BB99D903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B5C-564F-4602-AC85-8468EA77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796-60B0-4DFD-BC73-5DED00EE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200-E898-40EC-8482-B38682D6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5604-E89E-4CFB-B166-B8A211CCA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7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93120" y="208080"/>
            <a:ext cx="8316720" cy="6102000"/>
            <a:chOff x="393120" y="208080"/>
            <a:chExt cx="8316720" cy="6102000"/>
          </a:xfrm>
        </p:grpSpPr>
        <p:pic>
          <p:nvPicPr>
            <p:cNvPr id="143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4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1680" y="4724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7080" y="396252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312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02120" y="5562720"/>
              <a:ext cx="3189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iangulation on a Base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8120" y="22096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904760" y="2209680"/>
              <a:ext cx="11430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62320" y="20574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477120" y="205704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77120" y="2209680"/>
              <a:ext cx="1600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3140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694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38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982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292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971800" y="220932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971800" y="2209320"/>
              <a:ext cx="838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3047760" y="22856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200400" y="220932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3047760" y="2209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733920" y="220968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809520" y="2209320"/>
              <a:ext cx="175284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4800240" y="220932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4800600" y="2209680"/>
              <a:ext cx="8380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638680" y="2209680"/>
              <a:ext cx="763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715000" y="220932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715000" y="220932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5714640" y="2209680"/>
              <a:ext cx="1522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867280" y="2209680"/>
              <a:ext cx="6098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14400" y="25909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54120" y="22096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43000" y="3032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7920" y="27432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9560" y="24382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7440" y="33368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39720" y="19051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67240" y="28796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25720" y="25909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54320" y="23464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35560" y="22860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6440" y="25146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3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49960" y="25146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67440" y="22860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34120" y="28036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3240" y="1889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05120" y="24224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’3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33920" y="3032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 7-2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the scene in Slides # 1 or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the instructors guidelines map this scene using  exterior mapping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ing upon the technique and landmarks you use, your response may or may not exactly match the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concentrate on using the appropriate rules, not using inappropriate landmarks and taking all necessary measu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1 - Practical Sce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ar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200" y="208080"/>
            <a:ext cx="8472240" cy="6426000"/>
            <a:chOff x="304200" y="208080"/>
            <a:chExt cx="8472240" cy="6426000"/>
          </a:xfrm>
        </p:grpSpPr>
        <p:pic>
          <p:nvPicPr>
            <p:cNvPr id="48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581280" y="5410080"/>
              <a:ext cx="381240" cy="381240"/>
            </a:xfrm>
            <a:prstGeom prst="flowChartSummingJunc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64320" y="5486400"/>
              <a:ext cx="1380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ment 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9760" y="403848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0400" y="6232680"/>
              <a:ext cx="2171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lar Coordin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2 - Solution Example Polar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04200" y="208080"/>
            <a:ext cx="8481600" cy="6426000"/>
            <a:chOff x="304200" y="208080"/>
            <a:chExt cx="8481600" cy="6426000"/>
          </a:xfrm>
        </p:grpSpPr>
        <p:pic>
          <p:nvPicPr>
            <p:cNvPr id="75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81280" y="5334120"/>
              <a:ext cx="381240" cy="380880"/>
            </a:xfrm>
            <a:prstGeom prst="flowChartSummingJunc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64320" y="5486400"/>
              <a:ext cx="1380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ment 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9760" y="403848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2057040" y="4266720"/>
              <a:ext cx="16765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2971440" y="3124080"/>
              <a:ext cx="76212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276720" y="3047760"/>
              <a:ext cx="4572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33920" y="281952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733920" y="3581280"/>
              <a:ext cx="18288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733920" y="3276720"/>
              <a:ext cx="20574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733920" y="2895120"/>
              <a:ext cx="190476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733920" y="3352320"/>
              <a:ext cx="426708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49000" y="327672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1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1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4120" y="239220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7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1’6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28520" y="307800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59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2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09600" y="2590920"/>
              <a:ext cx="76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4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73040" y="3078000"/>
              <a:ext cx="76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3’6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70800" y="338292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2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44640" y="3200400"/>
              <a:ext cx="64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’10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4280" y="4419720"/>
              <a:ext cx="4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70400" y="6232680"/>
              <a:ext cx="2171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lar Coordin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3 - Practical Scene Triangulation on a Bas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04200" y="208080"/>
            <a:ext cx="8472240" cy="6426000"/>
            <a:chOff x="304200" y="208080"/>
            <a:chExt cx="8472240" cy="6426000"/>
          </a:xfrm>
        </p:grpSpPr>
        <p:pic>
          <p:nvPicPr>
            <p:cNvPr id="118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9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7080" y="396252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02120" y="5562720"/>
              <a:ext cx="3189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iangulation on a Base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2 - Solution Example Triangulation on a Bas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4:38:02Z</dcterms:created>
  <dc:creator>Ross M. Gardner</dc:creator>
  <dc:description/>
  <dc:language>en-US</dc:language>
  <cp:lastModifiedBy>amcleary</cp:lastModifiedBy>
  <cp:lastPrinted>2003-12-11T16:22:17Z</cp:lastPrinted>
  <dcterms:modified xsi:type="dcterms:W3CDTF">2004-07-28T16:40:54Z</dcterms:modified>
  <cp:revision>11</cp:revision>
  <dc:subject/>
  <dc:title>No Slide Title</dc:title>
</cp:coreProperties>
</file>