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8.png" ContentType="image/png"/>
  <Override PartName="/ppt/media/image17.png" ContentType="image/png"/>
  <Override PartName="/ppt/media/image8.png" ContentType="image/png"/>
  <Override PartName="/ppt/media/image16.wmf" ContentType="image/x-wmf"/>
  <Override PartName="/ppt/media/image1.wmf" ContentType="image/x-wmf"/>
  <Override PartName="/ppt/media/image4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5952-DEBD-45BA-A53A-1C8BC211B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C66E-3B9E-4FBE-AD4E-7CC54DEE27E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B623-F851-43B2-A897-97E13ED1530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E2B5-B812-43D7-B4D4-176FEC35878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76BB-B48F-45D8-93D8-80DDEFB2709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2F47-BAB4-4A16-880A-0F2D8A9FCDB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FC6F-8EA6-46A1-86EB-7425B457A97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31F6-41DA-464E-9748-616339567C6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65DC-CE1D-41E9-A0A6-24010622EC8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815A-76B1-4365-8902-2733D4B8DFE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81DB-6C43-4D31-8EA8-061BEB24E03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A201-3F6D-4630-8E0D-27B6769BF8A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EEF8-53D4-4363-8EDE-16A6BB6DF1E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81B6-3250-45EC-A8C2-57C2CEF69A8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9CA9-C31B-43DD-B750-1E44260E93E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D1A2-0211-4121-B229-8AF7360407B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308E-2875-424A-95CF-440EA8EC8AD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CE46-5206-407E-9F22-7F54B742A5B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518C-CFAC-429F-B034-A29116CBA94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08B9-1549-423B-92AC-1539B4C5CCA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156E-CB76-4C57-8928-DEA3BC248CB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E91B-114C-4AA9-A332-577B79B8D23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C534-9CD6-4B44-8FAB-902661B297C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D4CB-7A90-4B03-8DC1-84B935A9682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AAA1-AC19-4D43-9EF0-0567B6D9D75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9CB6-5354-4F83-8BEE-18E48D15D77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3B35-7899-42EA-8217-9B7496AA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6379-4270-4866-A9C8-FA297C16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D381-0736-4412-A9D7-CB4D8EB6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D25A-A43D-4403-8CEE-E7A34AE7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5372-4D0E-4FBC-B5FF-3C168150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4427-5F3E-489F-AB28-3B50803A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0062-94BA-4693-B2EB-E28FA686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1AD1-A4F1-4ECF-B3C5-E9286136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61C5-91A2-439E-879A-6F1D4CCD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FDFF-B5FD-40CA-AED0-A32571C5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3AD1-C74C-48EC-AC0D-08716A11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AC40-5553-4E40-8730-FB13D30C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2824-D81C-4684-9A3D-ED010392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082A-1B03-4EE0-9A8A-B024B63F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F0A3-15DF-4CC6-A63B-A7F0BD03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1AA3-3D53-4777-907B-7225152C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D16A-5EEE-4F1B-9935-F5575760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BD24-DE6D-4A96-8DBA-693B0AE8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204C-CF2E-4EAF-82AB-057B9B1A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D6F1-140E-455C-B996-9EC184C0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B659-7040-436B-83BA-6C17A021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1E2E-C7D2-4442-BD63-C86651F5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85E0-97D2-41C1-BB17-771CC85D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1A6E-C137-40B7-9F1F-1A11B63A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499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2000"/>
            <a:ext cx="1905120" cy="30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8240"/>
            <a:ext cx="2895480" cy="30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356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84DC-7361-473D-B7EB-D9FF37510B6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3"/>
          <p:cNvGrpSpPr/>
          <p:nvPr/>
        </p:nvGrpSpPr>
        <p:grpSpPr>
          <a:xfrm>
            <a:off x="228600" y="1981080"/>
            <a:ext cx="7391520" cy="320760"/>
            <a:chOff x="228600" y="1981080"/>
            <a:chExt cx="7391520" cy="320760"/>
          </a:xfrm>
        </p:grpSpPr>
        <p:sp>
          <p:nvSpPr>
            <p:cNvPr id="10" name="AutoShape 11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228600" y="1981080"/>
              <a:ext cx="395280" cy="3207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49" h="202">
                  <a:moveTo>
                    <a:pt x="124" y="0"/>
                  </a:moveTo>
                  <a:lnTo>
                    <a:pt x="112" y="1"/>
                  </a:lnTo>
                  <a:lnTo>
                    <a:pt x="99" y="2"/>
                  </a:lnTo>
                  <a:lnTo>
                    <a:pt x="87" y="5"/>
                  </a:lnTo>
                  <a:lnTo>
                    <a:pt x="76" y="8"/>
                  </a:lnTo>
                  <a:lnTo>
                    <a:pt x="65" y="12"/>
                  </a:lnTo>
                  <a:lnTo>
                    <a:pt x="55" y="17"/>
                  </a:lnTo>
                  <a:lnTo>
                    <a:pt x="45" y="23"/>
                  </a:lnTo>
                  <a:lnTo>
                    <a:pt x="37" y="29"/>
                  </a:lnTo>
                  <a:lnTo>
                    <a:pt x="29" y="37"/>
                  </a:lnTo>
                  <a:lnTo>
                    <a:pt x="22" y="44"/>
                  </a:lnTo>
                  <a:lnTo>
                    <a:pt x="15" y="52"/>
                  </a:lnTo>
                  <a:lnTo>
                    <a:pt x="10" y="61"/>
                  </a:lnTo>
                  <a:lnTo>
                    <a:pt x="6" y="70"/>
                  </a:lnTo>
                  <a:lnTo>
                    <a:pt x="2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1" y="110"/>
                  </a:lnTo>
                  <a:lnTo>
                    <a:pt x="2" y="120"/>
                  </a:lnTo>
                  <a:lnTo>
                    <a:pt x="6" y="130"/>
                  </a:lnTo>
                  <a:lnTo>
                    <a:pt x="10" y="139"/>
                  </a:lnTo>
                  <a:lnTo>
                    <a:pt x="15" y="148"/>
                  </a:lnTo>
                  <a:lnTo>
                    <a:pt x="22" y="157"/>
                  </a:lnTo>
                  <a:lnTo>
                    <a:pt x="29" y="165"/>
                  </a:lnTo>
                  <a:lnTo>
                    <a:pt x="37" y="172"/>
                  </a:lnTo>
                  <a:lnTo>
                    <a:pt x="45" y="178"/>
                  </a:lnTo>
                  <a:lnTo>
                    <a:pt x="55" y="184"/>
                  </a:lnTo>
                  <a:lnTo>
                    <a:pt x="65" y="189"/>
                  </a:lnTo>
                  <a:lnTo>
                    <a:pt x="76" y="193"/>
                  </a:lnTo>
                  <a:lnTo>
                    <a:pt x="87" y="197"/>
                  </a:lnTo>
                  <a:lnTo>
                    <a:pt x="99" y="199"/>
                  </a:lnTo>
                  <a:lnTo>
                    <a:pt x="112" y="200"/>
                  </a:lnTo>
                  <a:lnTo>
                    <a:pt x="124" y="201"/>
                  </a:lnTo>
                  <a:lnTo>
                    <a:pt x="248" y="201"/>
                  </a:lnTo>
                  <a:lnTo>
                    <a:pt x="248" y="0"/>
                  </a:lnTo>
                  <a:lnTo>
                    <a:pt x="124" y="0"/>
                  </a:lnTo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499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3632040" y="4889520"/>
            <a:ext cx="4878720" cy="320760"/>
            <a:chOff x="3632040" y="4889520"/>
            <a:chExt cx="4878720" cy="320760"/>
          </a:xfrm>
        </p:grpSpPr>
        <p:sp>
          <p:nvSpPr>
            <p:cNvPr id="51" name="AutoShape 5"/>
            <p:cNvSpPr/>
            <p:nvPr/>
          </p:nvSpPr>
          <p:spPr>
            <a:xfrm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8248680" y="4889520"/>
              <a:ext cx="262080" cy="32076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65" h="202">
                  <a:moveTo>
                    <a:pt x="82" y="0"/>
                  </a:moveTo>
                  <a:lnTo>
                    <a:pt x="91" y="1"/>
                  </a:lnTo>
                  <a:lnTo>
                    <a:pt x="98" y="2"/>
                  </a:lnTo>
                  <a:lnTo>
                    <a:pt x="106" y="5"/>
                  </a:lnTo>
                  <a:lnTo>
                    <a:pt x="114" y="8"/>
                  </a:lnTo>
                  <a:lnTo>
                    <a:pt x="121" y="12"/>
                  </a:lnTo>
                  <a:lnTo>
                    <a:pt x="128" y="17"/>
                  </a:lnTo>
                  <a:lnTo>
                    <a:pt x="134" y="23"/>
                  </a:lnTo>
                  <a:lnTo>
                    <a:pt x="140" y="29"/>
                  </a:lnTo>
                  <a:lnTo>
                    <a:pt x="145" y="37"/>
                  </a:lnTo>
                  <a:lnTo>
                    <a:pt x="150" y="44"/>
                  </a:lnTo>
                  <a:lnTo>
                    <a:pt x="154" y="52"/>
                  </a:lnTo>
                  <a:lnTo>
                    <a:pt x="158" y="61"/>
                  </a:lnTo>
                  <a:lnTo>
                    <a:pt x="160" y="70"/>
                  </a:lnTo>
                  <a:lnTo>
                    <a:pt x="162" y="80"/>
                  </a:lnTo>
                  <a:lnTo>
                    <a:pt x="163" y="90"/>
                  </a:lnTo>
                  <a:lnTo>
                    <a:pt x="164" y="100"/>
                  </a:lnTo>
                  <a:lnTo>
                    <a:pt x="163" y="110"/>
                  </a:lnTo>
                  <a:lnTo>
                    <a:pt x="162" y="120"/>
                  </a:lnTo>
                  <a:lnTo>
                    <a:pt x="160" y="130"/>
                  </a:lnTo>
                  <a:lnTo>
                    <a:pt x="158" y="139"/>
                  </a:lnTo>
                  <a:lnTo>
                    <a:pt x="154" y="148"/>
                  </a:lnTo>
                  <a:lnTo>
                    <a:pt x="150" y="157"/>
                  </a:lnTo>
                  <a:lnTo>
                    <a:pt x="145" y="165"/>
                  </a:lnTo>
                  <a:lnTo>
                    <a:pt x="140" y="172"/>
                  </a:lnTo>
                  <a:lnTo>
                    <a:pt x="134" y="178"/>
                  </a:lnTo>
                  <a:lnTo>
                    <a:pt x="128" y="184"/>
                  </a:lnTo>
                  <a:lnTo>
                    <a:pt x="121" y="189"/>
                  </a:lnTo>
                  <a:lnTo>
                    <a:pt x="114" y="193"/>
                  </a:lnTo>
                  <a:lnTo>
                    <a:pt x="106" y="197"/>
                  </a:lnTo>
                  <a:lnTo>
                    <a:pt x="98" y="199"/>
                  </a:lnTo>
                  <a:lnTo>
                    <a:pt x="91" y="200"/>
                  </a:lnTo>
                  <a:lnTo>
                    <a:pt x="82" y="201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82" y="0"/>
                  </a:lnTo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2000"/>
            <a:ext cx="1905120" cy="30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2000"/>
            <a:ext cx="3279960" cy="30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9040"/>
            <a:ext cx="587520" cy="48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5DF2-A449-464C-8A7B-EE968BAA5A7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4800600" y="2819520"/>
            <a:ext cx="3060720" cy="36687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vantGarde"/>
              </a:rPr>
              <a:t>C</a:t>
            </a:r>
            <a:r>
              <a:rPr b="1" lang="en-US" sz="4000" spc="-1" strike="noStrike">
                <a:solidFill>
                  <a:srgbClr val="003366"/>
                </a:solidFill>
                <a:latin typeface="AvantGarde"/>
              </a:rPr>
              <a:t>rime </a:t>
            </a:r>
            <a:r>
              <a:rPr b="1" lang="en-US" sz="4000" spc="-1" strike="noStrike">
                <a:solidFill>
                  <a:srgbClr val="ff3300"/>
                </a:solidFill>
                <a:latin typeface="AvantGarde"/>
              </a:rPr>
              <a:t>P</a:t>
            </a:r>
            <a:r>
              <a:rPr b="1" lang="en-US" sz="4000" spc="-1" strike="noStrike">
                <a:solidFill>
                  <a:srgbClr val="003366"/>
                </a:solidFill>
                <a:latin typeface="AvantGarde"/>
              </a:rPr>
              <a:t>revention </a:t>
            </a:r>
            <a:r>
              <a:rPr b="1" lang="en-US" sz="4000" spc="-1" strike="noStrike">
                <a:solidFill>
                  <a:srgbClr val="ff3300"/>
                </a:solidFill>
                <a:latin typeface="AvantGarde"/>
              </a:rPr>
              <a:t>T</a:t>
            </a:r>
            <a:r>
              <a:rPr b="1" lang="en-US" sz="4000" spc="-1" strike="noStrike">
                <a:solidFill>
                  <a:srgbClr val="003366"/>
                </a:solidFill>
                <a:latin typeface="AvantGarde"/>
              </a:rPr>
              <a:t>hrough </a:t>
            </a:r>
            <a:r>
              <a:rPr b="1" lang="en-US" sz="4000" spc="-1" strike="noStrike">
                <a:solidFill>
                  <a:srgbClr val="ff3300"/>
                </a:solidFill>
                <a:latin typeface="AvantGarde"/>
              </a:rPr>
              <a:t>E</a:t>
            </a:r>
            <a:r>
              <a:rPr b="1" lang="en-US" sz="4000" spc="-1" strike="noStrike">
                <a:solidFill>
                  <a:srgbClr val="003366"/>
                </a:solidFill>
                <a:latin typeface="AvantGarde"/>
              </a:rPr>
              <a:t>nvironmental </a:t>
            </a:r>
            <a:r>
              <a:rPr b="1" lang="en-US" sz="4000" spc="-1" strike="noStrike">
                <a:solidFill>
                  <a:srgbClr val="ff3300"/>
                </a:solidFill>
                <a:latin typeface="AvantGarde"/>
              </a:rPr>
              <a:t>D</a:t>
            </a:r>
            <a:r>
              <a:rPr b="1" lang="en-US" sz="4000" spc="-1" strike="noStrike">
                <a:solidFill>
                  <a:srgbClr val="003366"/>
                </a:solidFill>
                <a:latin typeface="AvantGarde"/>
              </a:rPr>
              <a:t>esign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616320" y="3573360"/>
            <a:ext cx="317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 Black"/>
              </a:rPr>
              <a:t>Chapter 2 i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 Black"/>
              </a:rPr>
              <a:t>Crime Prevention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 Black"/>
              </a:rPr>
              <a:t>Theory &amp; Practi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Hierarchy of Space </a:t>
            </a:r>
            <a:br>
              <a:rPr sz="3200"/>
            </a:b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(Spatial Hierarchy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The design of a residential environment should help identify ownership by delineating private space from public space through real or symbolic boundari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 spatial hierarchy can be achieved by creating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real boundaries through fencing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symbolic boundaries such as landscaping or differing the grade or paving stone colours of private space from that of public space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5076720" y="189000"/>
            <a:ext cx="374328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Territoriality/</a:t>
            </a:r>
            <a:br>
              <a:rPr sz="3200"/>
            </a:b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Defensible Sp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6970680" cy="41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Design should help foster people’s vigilance &amp; ownership over their homes, public space, &amp; the neighbourhood as a whol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Territoriality in public &amp; semi-public areas can be enhanced b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providing a clear definition of “controlled” spac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designing clearly-marked transitional zones for people moving from public to private space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attracting local residents to use public &amp; semi-private space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Providing common activity areas helps to stimulate social interaction, which may lead to greater social cohesion &amp; informal social control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20952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Territoriality/</a:t>
            </a:r>
            <a:br>
              <a:rPr sz="3200"/>
            </a:b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Defensible Sp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6970680" cy="41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7061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Activity Suppor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The design of public space should encourage the intended use of this space by residents and legitimate us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This can be achieved by designing public or semi-public spaces to include parks, playgrounds, benches, lighting, or promenade-style sidewalk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ctivity support is important for increasing the surveillance opportunities of &amp; fostering territoriality among local resid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5292720" y="404640"/>
            <a:ext cx="302436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Imag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Ensuring that a building or area is clean, well-maintained, &amp; graffiti-free prevents a perception of neglect &amp; vulnerability by potential offender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It can also instil in residents a greater pride in their neighbourhood, thereby promoting community ownership &amp; territoria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427640" y="476280"/>
            <a:ext cx="352404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PTED Strategies, Concepts, Princip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Location/Surrounding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 design or location decision should take into consideration the surrounding environment &amp; user group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The potential negative impact on a site by the surrounding environment should be considered, primarily by avoiding the use of the site by incompatible groups (e.g., don’t locate tavern or seniors home next to high schoo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ond Generation CPT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Critics charge that CPTED proponents give too much weight to the role of the environment in influencing crime &amp; criminal behavior; social &amp; demographic variables are critical in maximizing efficacy of safe desig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CA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 Gen CPTED focuses on building local social capital by fostering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local social cohes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connectivity among neighborhood residen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unique local community cultur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social stabilizers” that promote all of the above while minimizing destabilizing activities that can promote crime &amp; disorder (e.g., bars, pawn shops, etc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mon CPTED Strategies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maximize residents’ opportunities for surveillance of dwellings &amp; public spac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clearly define the boundaries between public &amp; private spac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encourage a sense of ownership, responsibility &amp; territoriality among residen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limit the number of access &amp; exit points &amp; routes through a neighbourhoo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provide adequate interior &amp; exterior lighting, stressing bright white ligh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avoid any building design or ground-level planting that may provide concealmen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keep the surrounding area clean, well-maintained, graffiti-free &amp; attractiv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consider the security implications of a site before locating ther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stress a partnership approach to CPT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incorporate CPTED into a comprehensive crime prevention program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3123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CPTED Case Studies: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ingwood Village (Burnaby, BC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33480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CPTED Overvie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ntecedent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CPTED concepts/strateg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Second generation CP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Common CPTED Strateg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Case stud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ingwood Village (Burnaby, BC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3139920" y="2362320"/>
            <a:ext cx="35481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ingwood Village (Burnaby, BC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55972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an Harrison Community Complex (Toronto, ON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4190760" cy="2801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4800600" y="3065400"/>
            <a:ext cx="4114800" cy="2747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457200" y="25146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CA" sz="2400" spc="-1" strike="noStrike">
                <a:solidFill>
                  <a:srgbClr val="003366"/>
                </a:solidFill>
                <a:latin typeface="Arial Narrow"/>
              </a:rPr>
              <a:t>Befor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4876920" y="25146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CA" sz="2400" spc="-1" strike="noStrike">
                <a:solidFill>
                  <a:srgbClr val="003366"/>
                </a:solidFill>
                <a:latin typeface="Arial Narrow"/>
              </a:rPr>
              <a:t>After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elawney (Mississuaga, Ontario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2335320" cy="3733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3733920" y="2971800"/>
            <a:ext cx="4495680" cy="30132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1143000" y="2438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 Narrow"/>
              </a:rPr>
              <a:t>Modular Lotting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4800600" y="2438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 Narrow"/>
              </a:rPr>
              <a:t>Trelawney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mplain Place (Vancouver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219320" y="2428920"/>
            <a:ext cx="69498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mplain Place (Vancouver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PTED Ov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CPTED attempts to prevent crime in two basic ways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1)</a:t>
            </a: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CA" sz="2000" spc="-1" strike="noStrike">
                <a:solidFill>
                  <a:srgbClr val="ff3300"/>
                </a:solidFill>
                <a:latin typeface="Arial"/>
              </a:rPr>
              <a:t>directly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 to reduce crime by restricting access to property &amp; removing criminal opportunities. (e.g., maximizing residents’ opportunities for surveillance, restricting access to property, increasing security, removing valuables, etc</a:t>
            </a: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.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2)</a:t>
            </a: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CA" sz="2000" spc="-1" strike="noStrike">
                <a:solidFill>
                  <a:srgbClr val="ff3300"/>
                </a:solidFill>
                <a:latin typeface="Arial"/>
              </a:rPr>
              <a:t>indirectly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 to reduce crime, fear, &amp; related problems by influencing the behaviour of residents &amp; other legitimate users of that space.</a:t>
            </a: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teced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Jane Jacobs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lower neighborhood crime rates are a function of design that provides increased (natural) surveillance opportunities to legitimate residents &amp; pedestri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Thus, safe design maximizes strategies that draw “eyes &amp; ears” on the stre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teced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Oscar Newman’s Defensible Space theory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physical environment could be designed to release the latent sense of “territoriality” among inhabitant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this would translate into residents’ responsibility for preserving a safe, clean, &amp; well-maintained living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PTED Concepts/Strateg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Natural Surveillan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Access Control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Target Harde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Spatial Hierarch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Territoriality/Defensible Sp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Activity Suppo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Location/Surrounding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Natural </a:t>
            </a:r>
            <a:br>
              <a:rPr sz="3200"/>
            </a:b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Surveillan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79786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 safe design should maximize the ability of users to spot suspicious people &amp; activities during their daily activiti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Natural surveillance opportunities can be enhanced by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orienting windows to entry ways, vulnerable points or public space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designing landscapes that allow unobstructed views of surrounding area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improving visibility with lighting, transparent building materials, or white paint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avoiding the creation of entrapment area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Artificial surveillance (e.g., CCTV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Intentional surveillance (security guards, citizen patrol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5" descr="http://www.lancastercsc.org/images/Natural_Surveillance_House_Bad.gif"/>
          <p:cNvPicPr/>
          <p:nvPr/>
        </p:nvPicPr>
        <p:blipFill>
          <a:blip r:embed="rId1"/>
          <a:stretch/>
        </p:blipFill>
        <p:spPr>
          <a:xfrm>
            <a:off x="4427640" y="333360"/>
            <a:ext cx="42480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980640"/>
            <a:ext cx="8001000" cy="92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Access Contro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7545240" cy="41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 safe design should control access to a site, limiting unnecessary traffic &amp; deterring offenders from enter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ccess control sends a message to potential offenders that they are at greater risk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ccess control can be achieved by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ensuring entrances are clearly defined, well lit, &amp; overlooked by windows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installing security hardwa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designing streets to prevent a quick &amp; easy entry &amp; exit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6" descr="https://encrypted-tbn3.gstatic.com/images?q=tbn:ANd9GcQq0ClqvvVRTk2Ay0JEi2jbe72F1V5z1IhOEwAUy29m4WbyBGdYsAbRnTu-"/>
          <p:cNvPicPr/>
          <p:nvPr/>
        </p:nvPicPr>
        <p:blipFill>
          <a:blip r:embed="rId1"/>
          <a:stretch/>
        </p:blipFill>
        <p:spPr>
          <a:xfrm>
            <a:off x="5364000" y="47628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Target Harden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The use of security devices &amp; hardware to lessen the vulnerability of potential targets to crime &amp; nuisanc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Targets can be made more impenetrable to offenders through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security hardwar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fortified doorfram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gates &amp; fenc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5" descr="http://i434.photobucket.com/albums/qq66/TKPNPodcast/afe8.jpg"/>
          <p:cNvPicPr/>
          <p:nvPr/>
        </p:nvPicPr>
        <p:blipFill>
          <a:blip r:embed="rId1"/>
          <a:stretch/>
        </p:blipFill>
        <p:spPr>
          <a:xfrm>
            <a:off x="5580000" y="26028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14:02:49Z</dcterms:created>
  <dc:creator>Steve Schneider</dc:creator>
  <dc:description/>
  <dc:language>en-US</dc:language>
  <cp:lastModifiedBy>Lindens</cp:lastModifiedBy>
  <dcterms:modified xsi:type="dcterms:W3CDTF">2014-04-28T14:24:49Z</dcterms:modified>
  <cp:revision>46</cp:revision>
  <dc:subject/>
  <dc:title>Researching Organized Crime for Policy Purposes: Challenges, Critiques, and Recommendations</dc:title>
</cp:coreProperties>
</file>