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2.xml" ContentType="application/vnd.openxmlformats-officedocument.presentationml.notesSlide+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5.xml.rels" ContentType="application/vnd.openxmlformats-package.relationships+xml"/>
  <Override PartName="/ppt/notesSlides/_rels/notesSlide72.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1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8.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9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F1E7-748D-4C88-BECF-34834C4D6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B431-B07A-4481-9954-8FAC58631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23840" y="762120"/>
            <a:ext cx="2557440" cy="1919160"/>
          </a:xfrm>
          <a:prstGeom prst="rect">
            <a:avLst/>
          </a:prstGeom>
          <a:ln w="0">
            <a:noFill/>
          </a:ln>
        </p:spPr>
      </p:sp>
      <p:sp>
        <p:nvSpPr>
          <p:cNvPr id="246" name="PlaceHolder 2"/>
          <p:cNvSpPr>
            <a:spLocks noGrp="1"/>
          </p:cNvSpPr>
          <p:nvPr>
            <p:ph type="body"/>
          </p:nvPr>
        </p:nvSpPr>
        <p:spPr>
          <a:xfrm>
            <a:off x="2819160" y="762120"/>
            <a:ext cx="3809880" cy="548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B988-00DB-4E72-A4B8-BB42F4FC4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DF86-AF47-43BE-B8F5-A2574DB3B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A77A-10B8-46ED-9F90-BCDC3E82E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166B-897F-4B8E-A16E-035D9B616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8D44-E31C-4005-9CC8-0EE5DD747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4586-E73D-43CD-8D63-8D452D01E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5CE6-83C3-419C-9D4B-2B9AA90FA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9B22-1383-44C7-AB67-D33790CC0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3408-9594-44F5-AE23-824C8FEE3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0BB8-F186-4031-8B69-238A9573D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B83A-167D-4A63-B510-3CFA60758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2037-B581-4B99-A4A2-DB9F05A05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5361-8EC7-4B1B-967C-DF7BE28EA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11BB-465F-447E-B2DA-AA591040B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CC30-B456-4A31-964A-71122FF7D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E2B6-5E49-4BE0-8632-DB5562BAE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0130-89F0-4B1A-9AD6-8F8084497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C705-EDB0-4B48-A66A-C2747ECCC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AF9C-0745-410A-8C6A-53AD4E037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F515-D889-4F51-81D8-FDF505C5B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158E-39E8-4E02-B933-805E116E0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5D04-8744-43C6-A2CD-C1233B6A4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C773-0C68-49AA-BAF4-84B82F0F5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EF61-3860-448E-B732-DDDAB5F60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984B-31F9-446B-B91E-241F811FB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4DA3-D197-4714-8AF4-26E2BCC9E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DCB7-F6CC-472C-8264-BCC4798B1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A53F-B94D-4D8F-A65E-FCB50E3D1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53B0-E322-4D27-8C09-91FBFECD8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62C8-6B7A-4194-8D44-118332C51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5D77-4541-44A8-A4F5-2CDFB431C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982D-E37D-4161-9FA0-C964907A8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68C6-0DE1-430B-BA57-3559C949C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B7B4-F0D7-49E5-97DB-886EB76A9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E539-9498-457F-AED3-14DED7FC4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1C68-37E2-4360-9DE4-18363AE30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1A5D-1510-4C1D-9F4B-8BFE542BE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F464-1D68-4EDD-A057-C56591EF2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BCA5-F32E-4D6C-96B2-EA1DD732B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C30E-0594-4BB8-AB42-F2D2CCC02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6EB9-B1B4-434F-8252-10172E48B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F0AD-BC30-47DE-8295-EB7D9B538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DDF9-A70B-4DA5-808C-7E6D041D2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5C4E-7B90-4E95-AD39-A98AB38FD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51A3-3556-41BC-8397-1B9521A82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DDB1-A78E-479C-9240-4BF6A259B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0384-1D1A-4FCB-A5DB-85BC2D056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D474-D514-4737-922A-D5BB615FB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465B-9860-4226-A6A3-D4C651F64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DB42-90B2-4AF5-B3B8-5857021DF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1C9D-5DFD-4ECC-A77F-4CA2462FA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0880-6D0E-438B-B58A-4DC579541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069F-F717-4860-9B8A-C580B75CB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50C9-76AB-4E9C-92E6-FF87440A9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CC65-27E1-4CA6-8E5A-E1DB58155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91DA-6E1B-4798-B54D-52DE8F47D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F364-51CE-48A6-83A0-56F5FC449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0A6F-BE5E-40B2-8811-20471FABA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EC70-A4C0-42F6-B812-EED9DE169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7506-FAF0-46C8-A6BA-EDE197ED4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A689-10E7-45D0-B8CD-FCC512CD3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97FF-0199-4A83-8BB6-C91B6FB62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E828-9DFF-492B-9905-EA2803A4C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AC6B-8912-4DBF-BDE4-D280B83B4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98E8-742E-4571-B046-9774192AB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8670-2EAF-47B8-92C0-5E2AF5AD8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4F14-AE04-40EB-8F2E-CC7FA0C70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A9DC-5072-4BAA-80D6-93F4DDE87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C782-BACE-4D7D-88C2-F03A6C5CF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2611-5594-4EEC-AF5F-332500514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DA91-562F-4A9A-8D02-0B3D9D2E1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B73C-EED5-4BA1-A9CD-D5201735D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A77B-840E-4C7E-958E-FD987A557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35EF-64D2-475C-88C4-FBC2E4F72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C3C1-BF1E-4ADA-B42B-F301C3479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E35D-B0BF-45F1-A01A-F9A37B2D5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F14C-DDAA-4E92-B429-C97472FA3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5556-242E-4022-AE80-E8DBC9D02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FDB7-DA4D-41B2-A32A-3C0E887A4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0A99-FC69-4D9F-BBA2-C7038E053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95DE-DD56-423B-861B-7E116C71A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454D-DCDF-4223-8B56-73A3724FC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9104-6604-4678-8470-E5F071BF0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0A8E-AFFF-418B-866F-2E4C52B87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C679-13FE-4496-9556-E6E262E33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509F-61F3-442A-9FB1-80F39563F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9829-A551-4FBC-B61E-42C5FC23E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1973-C351-4EF0-BAB2-A1711208B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5AAD-FEF6-49A4-A416-3B0EACF73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CAB6-5C2D-46A5-B941-E1A0BE791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00C2-440B-4C80-9F37-1F04DF480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C9EF-2EA6-41FF-8D13-3FE98C2F5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598A-AAA8-42D6-90CD-65B0B5246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3F39-5C61-41D9-B94F-882596C2F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D849-13EE-4420-B2CF-AC6737DDF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885D-5FF2-4CE2-900B-52DEB6C57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A12E-80E5-43A4-BDEA-D51DC8B9C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92D2-964B-4F26-A666-16CBE94FC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EE76D-DCA7-43FA-9180-85992C585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C5480-E311-4FA7-BBDC-2C3B07E63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ED2ED-F004-41FA-94AC-26CC9C877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E316E-A46A-41A8-B31F-2D9CFF244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479C3-806B-423B-9DFC-51DBC541E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54686-8CC7-4113-8BB5-2FFF55CA3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2EA87-F6B0-469B-9B72-1446598FA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C7970-7346-43B9-AEEE-0439A405D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2541D-FDE7-4BC1-BEDF-A054BCECF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97956-569C-4952-9CE5-6712B18AF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5D037-07A6-4440-B69D-C3D8D560C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31BDA-EEC2-4C47-8D17-2A7BA5C52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836C-70A9-4321-9A21-85568718A0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304920" y="38088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emical Threa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TICs</a:t>
            </a:r>
            <a:endParaRPr b="0" lang="en-US" sz="3600" spc="-1" strike="noStrike">
              <a:solidFill>
                <a:srgbClr val="000000"/>
              </a:solidFill>
              <a:latin typeface="Arial"/>
            </a:endParaRPr>
          </a:p>
        </p:txBody>
      </p:sp>
      <p:sp>
        <p:nvSpPr>
          <p:cNvPr id="86" name="PlaceHolder 2"/>
          <p:cNvSpPr>
            <a:spLocks noGrp="1"/>
          </p:cNvSpPr>
          <p:nvPr>
            <p:ph/>
          </p:nvPr>
        </p:nvSpPr>
        <p:spPr>
          <a:xfrm>
            <a:off x="418680" y="1116000"/>
            <a:ext cx="4038840" cy="4525920"/>
          </a:xfrm>
          <a:prstGeom prst="rect">
            <a:avLst/>
          </a:prstGeom>
          <a:noFill/>
          <a:ln w="0">
            <a:noFill/>
          </a:ln>
        </p:spPr>
        <p:txBody>
          <a:bodyPr anchor="t">
            <a:normAutofit/>
          </a:bodyPr>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manufacturing plant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processing and storage facilitie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oline and jet fuel storage tank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es with cyanide and mercury compounds</a:t>
            </a:r>
            <a:endParaRPr b="0" lang="en-US" sz="2400" spc="-1" strike="noStrike">
              <a:solidFill>
                <a:srgbClr val="000000"/>
              </a:solidFill>
              <a:latin typeface="Arial"/>
            </a:endParaRPr>
          </a:p>
        </p:txBody>
      </p:sp>
      <p:sp>
        <p:nvSpPr>
          <p:cNvPr id="87" name="PlaceHolder 3"/>
          <p:cNvSpPr>
            <a:spLocks noGrp="1"/>
          </p:cNvSpPr>
          <p:nvPr>
            <p:ph/>
          </p:nvPr>
        </p:nvSpPr>
        <p:spPr>
          <a:xfrm>
            <a:off x="4648320" y="1152000"/>
            <a:ext cx="4038480" cy="4526280"/>
          </a:xfrm>
          <a:prstGeom prst="rect">
            <a:avLst/>
          </a:prstGeom>
          <a:noFill/>
          <a:ln w="0">
            <a:noFill/>
          </a:ln>
        </p:spPr>
        <p:txBody>
          <a:bodyPr anchor="t">
            <a:normAutofit/>
          </a:bodyPr>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ticide</a:t>
            </a:r>
            <a:r>
              <a:rPr b="0" lang="en-US" sz="2400" spc="-1" strike="noStrike" u="sng">
                <a:solidFill>
                  <a:srgbClr val="000000"/>
                </a:solidFill>
                <a:uFillTx/>
                <a:latin typeface="Arial"/>
              </a:rPr>
              <a:t> </a:t>
            </a:r>
            <a:r>
              <a:rPr b="0" lang="en-US" sz="2400" spc="-1" strike="noStrike">
                <a:solidFill>
                  <a:srgbClr val="000000"/>
                </a:solidFill>
                <a:latin typeface="Arial"/>
              </a:rPr>
              <a:t>manufacturing and supply distributor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medical, and research laboratorie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s and medical clin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09480" y="502920"/>
            <a:ext cx="8229600" cy="5592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sters/rashes: Individuals experiencing unexplained water-like blisters, wheals, other rash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28600" y="457200"/>
            <a:ext cx="8686800" cy="6400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casualties: Many persons exhibiting unexplained serious health problems (nausea, disorientation, difficulty in breathing, convulsions, dea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e pattern of casualties: Casualties distributed in a pattern that may be associated with agent dissemination metho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533520"/>
            <a:ext cx="8686800" cy="640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nesses occurring in confined geographic area: Lower rates for people indoors versus outdo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04920" y="457200"/>
            <a:ext cx="8229600" cy="5516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liquid droplets: Surfaces may have oily droplets/film; water surfaces have oily film.</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152280" y="380520"/>
            <a:ext cx="838224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with unusual appearance:  Large areas of trees, shrubs, food crops, lawns that are dead, discolored, withered                                           (no drough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0" y="304560"/>
            <a:ext cx="8763120" cy="701028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odor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ity, flowery</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p/pungen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rlic/horseradish</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ter almond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ch kernel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own hay </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icular odor must be completely out of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 with surrounding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28600" y="152280"/>
            <a:ext cx="8610480" cy="5516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metal debris: Unexploded bomb-like materials, especially if they contain a liquid (no recent r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mptoms</a:t>
            </a:r>
            <a:endParaRPr b="0" lang="en-US" sz="3600" spc="-1" strike="noStrike">
              <a:solidFill>
                <a:srgbClr val="000000"/>
              </a:solidFill>
              <a:latin typeface="Arial"/>
            </a:endParaRPr>
          </a:p>
        </p:txBody>
      </p:sp>
      <p:sp>
        <p:nvSpPr>
          <p:cNvPr id="231" name="PlaceHolder 2"/>
          <p:cNvSpPr>
            <a:spLocks noGrp="1"/>
          </p:cNvSpPr>
          <p:nvPr>
            <p:ph/>
          </p:nvPr>
        </p:nvSpPr>
        <p:spPr>
          <a:xfrm>
            <a:off x="457200" y="1218960"/>
            <a:ext cx="8229600" cy="521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that a toxic chemical agent has be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xplained runny no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vious attack of spray emitting from an aircraf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ke/mist/fumes/ clouds of unknown orig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ghter or strange behavior in other pers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urred spee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in brea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sight probl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Detection Equipment and Associated Technologies</a:t>
            </a:r>
            <a:endParaRPr b="0" lang="en-US" sz="3600" spc="-1" strike="noStrike">
              <a:solidFill>
                <a:srgbClr val="000000"/>
              </a:solidFill>
              <a:latin typeface="Arial"/>
            </a:endParaRPr>
          </a:p>
        </p:txBody>
      </p:sp>
      <p:sp>
        <p:nvSpPr>
          <p:cNvPr id="233" name="PlaceHolder 2"/>
          <p:cNvSpPr>
            <a:spLocks noGrp="1"/>
          </p:cNvSpPr>
          <p:nvPr>
            <p:ph/>
          </p:nvPr>
        </p:nvSpPr>
        <p:spPr>
          <a:xfrm>
            <a:off x="304560" y="1828440"/>
            <a:ext cx="7924680" cy="4297320"/>
          </a:xfrm>
          <a:prstGeom prst="rect">
            <a:avLst/>
          </a:prstGeom>
          <a:noFill/>
          <a:ln w="0">
            <a:noFill/>
          </a:ln>
        </p:spPr>
        <p:txBody>
          <a:bodyPr anchor="t">
            <a:normAutofit fontScale="99000"/>
          </a:bodyPr>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M8 paper: detects V-type nerve agents (VX), G-type nerve agents (sarin, soman) and H-type vesicants (sulfur musta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256 Series Chemical Agent Detector Kit:  V-type nerve agents (VX), G-type nerve agents (sarin, soman) and H-type vesicants (sulfur musta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aeger colorimetric tub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toionization detector (P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2286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Detection:</a:t>
            </a:r>
            <a:r>
              <a:rPr b="0" lang="en-US" sz="2800" spc="-1" strike="noStrike">
                <a:solidFill>
                  <a:srgbClr val="000000"/>
                </a:solidFill>
                <a:latin typeface="Arial"/>
                <a:ea typeface="MS PGothic"/>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r>
              <a:rPr b="0" lang="en-US" sz="2800" spc="-1" strike="noStrike">
                <a:solidFill>
                  <a:srgbClr val="000000"/>
                </a:solidFill>
                <a:latin typeface="Arial"/>
                <a:ea typeface="MS PGothic"/>
              </a:rPr>
              <a:t>M256A1, M272 water testing kit, MINICAMS, the ICAD, M18A2, M21 remote sensing alarm, M90, M93A1 Fox, Bubbler, CAM, and DAAMS, M8 paper, or M9 paper.</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Weapons Defined</a:t>
            </a:r>
            <a:endParaRPr b="0" lang="en-US" sz="3600" spc="-1" strike="noStrike">
              <a:solidFill>
                <a:srgbClr val="000000"/>
              </a:solidFill>
              <a:latin typeface="Arial"/>
            </a:endParaRPr>
          </a:p>
        </p:txBody>
      </p:sp>
      <p:sp>
        <p:nvSpPr>
          <p:cNvPr id="89" name="PlaceHolder 2"/>
          <p:cNvSpPr>
            <a:spLocks noGrp="1"/>
          </p:cNvSpPr>
          <p:nvPr>
            <p:ph/>
          </p:nvPr>
        </p:nvSpPr>
        <p:spPr>
          <a:xfrm>
            <a:off x="0" y="1294920"/>
            <a:ext cx="91440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ny chemical which, through its chemical effect on living processes, may cause death, temporary loss of performance, or permanent injury to people and animals.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The Chemical Weapons Conven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to Consider when Choosing a Detection Device</a:t>
            </a:r>
            <a:endParaRPr b="0" lang="en-US" sz="3600" spc="-1" strike="noStrike">
              <a:solidFill>
                <a:srgbClr val="000000"/>
              </a:solidFill>
              <a:latin typeface="Arial"/>
            </a:endParaRPr>
          </a:p>
        </p:txBody>
      </p:sp>
      <p:sp>
        <p:nvSpPr>
          <p:cNvPr id="236" name="PlaceHolder 2"/>
          <p:cNvSpPr>
            <a:spLocks noGrp="1"/>
          </p:cNvSpPr>
          <p:nvPr>
            <p:ph/>
          </p:nvPr>
        </p:nvSpPr>
        <p:spPr>
          <a:xfrm>
            <a:off x="457200" y="1743120"/>
            <a:ext cx="4191120" cy="4525920"/>
          </a:xfrm>
          <a:prstGeom prst="rect">
            <a:avLst/>
          </a:prstGeom>
          <a:noFill/>
          <a:ln w="0">
            <a:noFill/>
          </a:ln>
        </p:spPr>
        <p:txBody>
          <a:bodyPr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detected</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ance to interferenc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im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up tim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status</a:t>
            </a:r>
            <a:endParaRPr b="0" lang="en-US" sz="2400" spc="-1" strike="noStrike">
              <a:solidFill>
                <a:srgbClr val="000000"/>
              </a:solidFill>
              <a:latin typeface="Arial"/>
            </a:endParaRPr>
          </a:p>
          <a:p>
            <a:pPr marL="2318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4"/>
          <p:cNvSpPr/>
          <p:nvPr/>
        </p:nvSpPr>
        <p:spPr>
          <a:xfrm>
            <a:off x="4952880" y="1743120"/>
            <a:ext cx="4191120" cy="4525920"/>
          </a:xfrm>
          <a:prstGeom prst="rect">
            <a:avLst/>
          </a:prstGeom>
          <a:noFill/>
          <a:ln w="0">
            <a:noFill/>
          </a:ln>
        </p:spPr>
        <p:style>
          <a:lnRef idx="0"/>
          <a:fillRef idx="0"/>
          <a:effectRef idx="0"/>
          <a:fontRef idx="minor"/>
        </p:style>
        <p:txBody>
          <a:bodyPr lIns="90000" rIns="90000" tIns="46800" bIns="46800"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rm cap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apabilities</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needs</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environment</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urement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dvantages’ of Chemical Weapons to Terrorists</a:t>
            </a: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nature of many types (VX, mustard g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tor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casualties (stun or ki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effec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production cost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vesicants are byproducts or similar compounds to common mate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advantages of Chemical Weapons</a:t>
            </a:r>
            <a:endParaRPr b="0" lang="en-US" sz="36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o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equipment to produce/sto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on resista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 temperature contro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discrimina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60" y="304920"/>
            <a:ext cx="8915400" cy="5897520"/>
          </a:xfrm>
          <a:prstGeom prst="rect">
            <a:avLst/>
          </a:prstGeom>
          <a:noFill/>
          <a:ln w="0">
            <a:noFill/>
          </a:ln>
        </p:spPr>
        <p:txBody>
          <a:bodyPr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WC</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1992, after a decade of negotiations, the Conference on Disarmament agreed to the text of </a:t>
            </a:r>
            <a:r>
              <a:rPr b="1" lang="en-US" sz="2800" spc="-1" strike="noStrike">
                <a:solidFill>
                  <a:srgbClr val="000000"/>
                </a:solidFill>
                <a:latin typeface="Arial"/>
              </a:rPr>
              <a:t>The Chemical Weapons Convention</a:t>
            </a:r>
            <a:r>
              <a:rPr b="0" lang="en-US" sz="2800" spc="-1" strike="noStrike">
                <a:solidFill>
                  <a:srgbClr val="000000"/>
                </a:solidFill>
                <a:latin typeface="Arial"/>
              </a:rPr>
              <a:t> (CWC), which was then adopted by the General Assembly at its forty-seventh session, on 30 November 1992, in its resolution entitled Convention on the Prohibition of the Development, Production, Stockpiling and Use of Chemical Weapons and on Their Destruction.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ttp://www.un.org/Depts/dda/WMD/cw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76320" y="533520"/>
            <a:ext cx="89913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lang="en-US" sz="3200" spc="-1" strike="noStrike">
                <a:solidFill>
                  <a:srgbClr val="000000"/>
                </a:solidFill>
                <a:latin typeface="Arial"/>
              </a:rPr>
              <a:t>Signatories included: US, UK, China, Russia, Israel … (184 ‘States-Parties’ to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d not sign the CWC: North Korea, Syria, Iraq, Egypt, South Sudan, Ango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y of Chemical Weapons</a:t>
            </a:r>
            <a:endParaRPr b="0" lang="en-US" sz="36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 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rine gas released into the wi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gas used during trench warfa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19040" y="3510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 I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s admitted use on Chin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 bombing of Bari Harbor, Italy (2,000 100 lb mustard bomb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80880" y="533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va Protocol in 197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ed use of Chemical Weap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defoliants and riot control ag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treaties requiring disposal of stored chemical weapons in 1985, 1992, 1993 and 20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Iran/Iraq conflict in 1982-198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8240" y="304560"/>
            <a:ext cx="8458200" cy="5562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Armistice of WWI, the horrors of chemical warfare prompted the banning of chemical weapons in wa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mmitment resulted in the signing, by 16 nations, of the 1925 Geneva Protocol for the Prohibition of the Use of Asphyxiating, Poisonous or Other Gases, and Bacteriological Methods of Warfar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ed States did not sign the Protocol until 197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04920" y="457200"/>
            <a:ext cx="8153280" cy="5516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va Protocol does not, incidentally, prohibit the development, production, or possession of chemical weapons, only its use on the battlefield.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nations signing the Geneva Protocol included the caveat that they had the right to retaliate with chemical weapons should they be attacked in such a way.</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457200"/>
            <a:ext cx="8763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are / were US Chemical Weapons Stockpil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lassification of Chemical Agents</a:t>
            </a:r>
            <a:endParaRPr b="0" lang="en-US" sz="4000" spc="-1" strike="noStrike">
              <a:solidFill>
                <a:srgbClr val="000000"/>
              </a:solidFill>
              <a:latin typeface="Arial"/>
            </a:endParaRPr>
          </a:p>
        </p:txBody>
      </p:sp>
      <p:sp>
        <p:nvSpPr>
          <p:cNvPr id="50" name="Rectangle 3"/>
          <p:cNvSpPr/>
          <p:nvPr/>
        </p:nvSpPr>
        <p:spPr>
          <a:xfrm>
            <a:off x="1546200" y="1600200"/>
            <a:ext cx="289548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Warfare Agents</a:t>
            </a:r>
            <a:endParaRPr b="0" lang="en-US" sz="2000" spc="-1" strike="noStrike">
              <a:solidFill>
                <a:srgbClr val="000000"/>
              </a:solidFill>
              <a:latin typeface="Arial"/>
            </a:endParaRPr>
          </a:p>
        </p:txBody>
      </p:sp>
      <p:sp>
        <p:nvSpPr>
          <p:cNvPr id="51" name="Rectangle 4"/>
          <p:cNvSpPr/>
          <p:nvPr/>
        </p:nvSpPr>
        <p:spPr>
          <a:xfrm>
            <a:off x="389880" y="2962440"/>
            <a:ext cx="120312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2" name="Rectangle 5"/>
          <p:cNvSpPr/>
          <p:nvPr/>
        </p:nvSpPr>
        <p:spPr>
          <a:xfrm>
            <a:off x="1876320" y="296244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o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3" name="Rectangle 6"/>
          <p:cNvSpPr/>
          <p:nvPr/>
        </p:nvSpPr>
        <p:spPr>
          <a:xfrm>
            <a:off x="3198960" y="295596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is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4" name="Rectangle 7"/>
          <p:cNvSpPr/>
          <p:nvPr/>
        </p:nvSpPr>
        <p:spPr>
          <a:xfrm>
            <a:off x="4607640" y="295596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5" name="Line 8"/>
          <p:cNvSpPr/>
          <p:nvPr/>
        </p:nvSpPr>
        <p:spPr>
          <a:xfrm>
            <a:off x="933480" y="26528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9"/>
          <p:cNvSpPr/>
          <p:nvPr/>
        </p:nvSpPr>
        <p:spPr>
          <a:xfrm>
            <a:off x="2405160" y="2676600"/>
            <a:ext cx="0" cy="284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
          <p:cNvSpPr/>
          <p:nvPr/>
        </p:nvSpPr>
        <p:spPr>
          <a:xfrm>
            <a:off x="3703680" y="2666880"/>
            <a:ext cx="1440" cy="28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1"/>
          <p:cNvSpPr/>
          <p:nvPr/>
        </p:nvSpPr>
        <p:spPr>
          <a:xfrm>
            <a:off x="5126040" y="2652840"/>
            <a:ext cx="0" cy="301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3083040" y="2390760"/>
            <a:ext cx="0" cy="276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917640" y="2666880"/>
            <a:ext cx="4222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Rectangle 14"/>
          <p:cNvSpPr/>
          <p:nvPr/>
        </p:nvSpPr>
        <p:spPr>
          <a:xfrm>
            <a:off x="4876920" y="4191120"/>
            <a:ext cx="213336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Industrial Chemicals</a:t>
            </a:r>
            <a:endParaRPr b="0" lang="en-US" sz="2000" spc="-1" strike="noStrike">
              <a:solidFill>
                <a:srgbClr val="000000"/>
              </a:solidFill>
              <a:latin typeface="Arial"/>
            </a:endParaRPr>
          </a:p>
        </p:txBody>
      </p:sp>
      <p:sp>
        <p:nvSpPr>
          <p:cNvPr id="62" name="Rectangle 15"/>
          <p:cNvSpPr/>
          <p:nvPr/>
        </p:nvSpPr>
        <p:spPr>
          <a:xfrm>
            <a:off x="3276000" y="5638680"/>
            <a:ext cx="1401120" cy="39744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gene</a:t>
            </a:r>
            <a:endParaRPr b="0" lang="en-US" sz="2000" spc="-1" strike="noStrike">
              <a:solidFill>
                <a:srgbClr val="000000"/>
              </a:solidFill>
              <a:latin typeface="Arial"/>
            </a:endParaRPr>
          </a:p>
        </p:txBody>
      </p:sp>
      <p:sp>
        <p:nvSpPr>
          <p:cNvPr id="63" name="Rectangle 16"/>
          <p:cNvSpPr/>
          <p:nvPr/>
        </p:nvSpPr>
        <p:spPr>
          <a:xfrm>
            <a:off x="5032800" y="5638680"/>
            <a:ext cx="179748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trachloride</a:t>
            </a:r>
            <a:endParaRPr b="0" lang="en-US" sz="2000" spc="-1" strike="noStrike">
              <a:solidFill>
                <a:srgbClr val="000000"/>
              </a:solidFill>
              <a:latin typeface="Arial"/>
            </a:endParaRPr>
          </a:p>
        </p:txBody>
      </p:sp>
      <p:sp>
        <p:nvSpPr>
          <p:cNvPr id="64" name="Rectangle 17"/>
          <p:cNvSpPr/>
          <p:nvPr/>
        </p:nvSpPr>
        <p:spPr>
          <a:xfrm>
            <a:off x="7162920" y="5622840"/>
            <a:ext cx="1536480" cy="39744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lorine</a:t>
            </a:r>
            <a:endParaRPr b="0" lang="en-US" sz="2000" spc="-1" strike="noStrike">
              <a:solidFill>
                <a:srgbClr val="000000"/>
              </a:solidFill>
              <a:latin typeface="Arial"/>
            </a:endParaRPr>
          </a:p>
        </p:txBody>
      </p:sp>
      <p:sp>
        <p:nvSpPr>
          <p:cNvPr id="65" name="Line 18"/>
          <p:cNvSpPr/>
          <p:nvPr/>
        </p:nvSpPr>
        <p:spPr>
          <a:xfrm>
            <a:off x="3983040" y="5243400"/>
            <a:ext cx="0" cy="38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9"/>
          <p:cNvSpPr/>
          <p:nvPr/>
        </p:nvSpPr>
        <p:spPr>
          <a:xfrm>
            <a:off x="8004240" y="5248440"/>
            <a:ext cx="0" cy="365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0"/>
          <p:cNvSpPr/>
          <p:nvPr/>
        </p:nvSpPr>
        <p:spPr>
          <a:xfrm>
            <a:off x="5972040" y="4981680"/>
            <a:ext cx="0" cy="657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1"/>
          <p:cNvSpPr/>
          <p:nvPr/>
        </p:nvSpPr>
        <p:spPr>
          <a:xfrm>
            <a:off x="3962520" y="5257800"/>
            <a:ext cx="405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2"/>
          <p:cNvSpPr/>
          <p:nvPr/>
        </p:nvSpPr>
        <p:spPr>
          <a:xfrm>
            <a:off x="31680" y="5429160"/>
            <a:ext cx="3048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hree are listed; however, hundreds of TICs are potentially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iston Army Depot</a:t>
            </a:r>
            <a:endParaRPr b="0" lang="en-US" sz="3200" spc="-1" strike="noStrike">
              <a:solidFill>
                <a:srgbClr val="000000"/>
              </a:solidFill>
              <a:latin typeface="Arial"/>
            </a:endParaRPr>
          </a:p>
        </p:txBody>
      </p:sp>
      <p:sp>
        <p:nvSpPr>
          <p:cNvPr id="100" name=""/>
          <p:cNvSpPr txBox="1"/>
          <p:nvPr/>
        </p:nvSpPr>
        <p:spPr>
          <a:xfrm>
            <a:off x="152280" y="1218960"/>
            <a:ext cx="8305920" cy="55623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cation:  Anniston, AL</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ignation:  Closed (September 2011)</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apons Stored: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ster Agent</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tory: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as a munitions storage facility in 194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an storing approximately 7% of the national chemical warfare agent stockpile in the early 1960’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l of the stockpile began in 2003.</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disposal was completed in 2006, VX in 2008, and blister agent in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e Bluff Arsenal</a:t>
            </a:r>
            <a:endParaRPr b="0" lang="en-US" sz="3200" spc="-1" strike="noStrike">
              <a:solidFill>
                <a:srgbClr val="000000"/>
              </a:solidFill>
              <a:latin typeface="Arial"/>
            </a:endParaRPr>
          </a:p>
        </p:txBody>
      </p:sp>
      <p:sp>
        <p:nvSpPr>
          <p:cNvPr id="102" name=""/>
          <p:cNvSpPr txBox="1"/>
          <p:nvPr/>
        </p:nvSpPr>
        <p:spPr>
          <a:xfrm>
            <a:off x="75960" y="1066680"/>
            <a:ext cx="8458200" cy="5486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ion: Closed (Transitioned into a Chemical Agent Disposal faci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pons Stor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B (Sar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X (Nerve Ga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 (Distilled Musta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B disposal completed in 2007, VX in 2008.</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ard disposal ongo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e Bluff facility now functions as the preeminent Chemical Agent Disposal facility, collecting and destroying chemical munitions and materiel, and decontaminating and recycling ton containers stored at the facilit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l chemical weapons production facility in the U.S. was destroyed at Pine Bluff in 2006.</a:t>
            </a:r>
            <a:endParaRPr b="0" lang="en-US" sz="1800" spc="-1" strike="noStrike">
              <a:solidFill>
                <a:srgbClr val="000000"/>
              </a:solidFill>
              <a:latin typeface="Arial"/>
            </a:endParaRPr>
          </a:p>
        </p:txBody>
      </p:sp>
      <p:sp>
        <p:nvSpPr>
          <p:cNvPr id="1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300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port Chemical Depot</a:t>
            </a:r>
            <a:endParaRPr b="0" lang="en-US" sz="3200" spc="-1" strike="noStrike">
              <a:solidFill>
                <a:srgbClr val="000000"/>
              </a:solidFill>
              <a:latin typeface="Arial"/>
            </a:endParaRPr>
          </a:p>
        </p:txBody>
      </p:sp>
      <p:sp>
        <p:nvSpPr>
          <p:cNvPr id="105" name=""/>
          <p:cNvSpPr txBox="1"/>
          <p:nvPr/>
        </p:nvSpPr>
        <p:spPr>
          <a:xfrm>
            <a:off x="76320" y="1143000"/>
            <a:ext cx="853416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ion:  Newport, I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ion:  Closed (January 201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pons Stored:  </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Nerve G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  </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ed in 1941 as a warfare materials and chemical agent production facility.</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used the sole VX production facility in the U.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on of warfare materials stopped in the 1960’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lition of the production facility began in 1998.</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disposal completed in 200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gewood Area of </a:t>
            </a:r>
            <a:br>
              <a:rPr sz="3200"/>
            </a:br>
            <a:r>
              <a:rPr b="0" lang="en-US" sz="3200" spc="-1" strike="noStrike">
                <a:solidFill>
                  <a:srgbClr val="000000"/>
                </a:solidFill>
                <a:latin typeface="Arial"/>
              </a:rPr>
              <a:t>Aberdeen Proving Ground</a:t>
            </a:r>
            <a:endParaRPr b="0" lang="en-US" sz="3200" spc="-1" strike="noStrike">
              <a:solidFill>
                <a:srgbClr val="000000"/>
              </a:solidFill>
              <a:latin typeface="Arial"/>
            </a:endParaRPr>
          </a:p>
        </p:txBody>
      </p:sp>
      <p:sp>
        <p:nvSpPr>
          <p:cNvPr id="107" name=""/>
          <p:cNvSpPr txBox="1"/>
          <p:nvPr/>
        </p:nvSpPr>
        <p:spPr>
          <a:xfrm>
            <a:off x="26640" y="1218960"/>
            <a:ext cx="873612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Edgewood, M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ion:  Closed (June 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pons Sto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5% of the nation’s original chemical weapons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ed in 1917 as the Army’s primary research and development center for equipment and muni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agent storage began in 194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l of all chemical agents completed Februar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atilla Chemical Depot</a:t>
            </a:r>
            <a:endParaRPr b="0" lang="en-US" sz="3200" spc="-1" strike="noStrike">
              <a:solidFill>
                <a:srgbClr val="000000"/>
              </a:solidFill>
              <a:latin typeface="Arial"/>
            </a:endParaRPr>
          </a:p>
        </p:txBody>
      </p:sp>
      <p:sp>
        <p:nvSpPr>
          <p:cNvPr id="109" name=""/>
          <p:cNvSpPr txBox="1"/>
          <p:nvPr/>
        </p:nvSpPr>
        <p:spPr>
          <a:xfrm>
            <a:off x="152280" y="1066320"/>
            <a:ext cx="8686800" cy="5791320"/>
          </a:xfrm>
          <a:prstGeom prst="rect">
            <a:avLst/>
          </a:prstGeom>
          <a:noFill/>
          <a:ln w="0">
            <a:noFill/>
          </a:ln>
        </p:spPr>
        <p:txBody>
          <a:bodyPr anchor="t">
            <a:normAutofit fontScale="98000"/>
          </a:bodyPr>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ion:  Umatilla, OR</a:t>
            </a:r>
            <a:endParaRPr b="0" lang="en-US" sz="30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ion:  Closed (October 2011)</a:t>
            </a:r>
            <a:endParaRPr b="0" lang="en-US" sz="30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pons Stored:  </a:t>
            </a:r>
            <a:endParaRPr b="0" lang="en-US" sz="30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B (Sarin)</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Nerve Gas)</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D (Distilled Mustard)</a:t>
            </a:r>
            <a:endParaRPr b="0" lang="en-US" sz="26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  </a:t>
            </a:r>
            <a:endParaRPr b="0" lang="en-US" sz="30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ed in 1941 as a materiel storage facility for everything from blankets to ammunition.</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d to a chemical storage depot in 1962.</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reparation for closure, non-chemical supplies were shipped elsewhere from 1990-1994.</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mical munitions were destroyed from 2004-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et Chemical Depot</a:t>
            </a:r>
            <a:endParaRPr b="0" lang="en-US" sz="3200" spc="-1" strike="noStrike">
              <a:solidFill>
                <a:srgbClr val="000000"/>
              </a:solidFill>
              <a:latin typeface="Arial"/>
            </a:endParaRPr>
          </a:p>
        </p:txBody>
      </p:sp>
      <p:sp>
        <p:nvSpPr>
          <p:cNvPr id="111" name=""/>
          <p:cNvSpPr txBox="1"/>
          <p:nvPr/>
        </p:nvSpPr>
        <p:spPr>
          <a:xfrm>
            <a:off x="155520" y="1219320"/>
            <a:ext cx="8531280" cy="5410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tion:  Tooele, U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ignation:  Closed (January 2012)</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apons Stored: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B (Sar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 (Tabu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X (Nerve G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 (Sulfur Mustar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D (Distilled Mustar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 (Mustard/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wisit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story: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ximately 44% of the nation’s original chemical weapons stockpil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mical disposal began in 1996 and officially ended in January 2012.</a:t>
            </a:r>
            <a:endParaRPr b="0" lang="en-US" sz="2200" spc="-1" strike="noStrike">
              <a:solidFill>
                <a:srgbClr val="000000"/>
              </a:solidFill>
              <a:latin typeface="Arial"/>
            </a:endParaRPr>
          </a:p>
        </p:txBody>
      </p:sp>
      <p:pic>
        <p:nvPicPr>
          <p:cNvPr id="112" name="Picture 2" descr="http://didierruef.photoshelter.com/img/pixel.gif"/>
          <p:cNvPicPr/>
          <p:nvPr/>
        </p:nvPicPr>
        <p:blipFill>
          <a:blip r:embed="rId1"/>
          <a:stretch/>
        </p:blipFill>
        <p:spPr>
          <a:xfrm>
            <a:off x="155520" y="-136440"/>
            <a:ext cx="9720" cy="9360"/>
          </a:xfrm>
          <a:prstGeom prst="rect">
            <a:avLst/>
          </a:prstGeom>
          <a:ln w="0">
            <a:noFill/>
          </a:ln>
        </p:spPr>
      </p:pic>
      <p:pic>
        <p:nvPicPr>
          <p:cNvPr id="113" name="Picture 4" descr="http://didierruef.photoshelter.com/img/pixel.gif"/>
          <p:cNvPicPr/>
          <p:nvPr/>
        </p:nvPicPr>
        <p:blipFill>
          <a:blip r:embed="rId2"/>
          <a:stretch/>
        </p:blipFill>
        <p:spPr>
          <a:xfrm>
            <a:off x="307800" y="15840"/>
            <a:ext cx="9720" cy="9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28640" y="15228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ston Atoll Chemical Agent Disposal System </a:t>
            </a:r>
            <a:endParaRPr b="0" lang="en-US" sz="3200" spc="-1" strike="noStrike">
              <a:solidFill>
                <a:srgbClr val="000000"/>
              </a:solidFill>
              <a:latin typeface="Arial"/>
            </a:endParaRPr>
          </a:p>
        </p:txBody>
      </p:sp>
      <p:sp>
        <p:nvSpPr>
          <p:cNvPr id="115" name=""/>
          <p:cNvSpPr txBox="1"/>
          <p:nvPr/>
        </p:nvSpPr>
        <p:spPr>
          <a:xfrm>
            <a:off x="151920" y="1598400"/>
            <a:ext cx="8458200" cy="5121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cation:  Johnston Atoll, HI</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ignation:  Closed (2000)</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apons Stored: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 (Distilled Mustard)</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tory: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s the first full-scale chemical disposal fac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4 years the facility destroyed over 4 million pounds of chemical warfare ag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ility was dismantled in 2000, but official closure and decontamination contin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grass Army Depot</a:t>
            </a:r>
            <a:endParaRPr b="0" lang="en-US" sz="3200" spc="-1" strike="noStrike">
              <a:solidFill>
                <a:srgbClr val="000000"/>
              </a:solidFill>
              <a:latin typeface="Arial"/>
            </a:endParaRPr>
          </a:p>
        </p:txBody>
      </p:sp>
      <p:sp>
        <p:nvSpPr>
          <p:cNvPr id="117" name=""/>
          <p:cNvSpPr txBox="1"/>
          <p:nvPr/>
        </p:nvSpPr>
        <p:spPr>
          <a:xfrm>
            <a:off x="152280" y="1142640"/>
            <a:ext cx="8686800" cy="5567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Richmond, 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ion:  Active (Scheduled for clos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pons Sto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ard Ag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s 532 tons of chemical mun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eblo Chemical Depot</a:t>
            </a:r>
            <a:endParaRPr b="0" lang="en-US" sz="3200" spc="-1" strike="noStrike">
              <a:solidFill>
                <a:srgbClr val="000000"/>
              </a:solidFill>
              <a:latin typeface="Arial"/>
            </a:endParaRPr>
          </a:p>
        </p:txBody>
      </p:sp>
      <p:sp>
        <p:nvSpPr>
          <p:cNvPr id="119" name=""/>
          <p:cNvSpPr txBox="1"/>
          <p:nvPr/>
        </p:nvSpPr>
        <p:spPr>
          <a:xfrm>
            <a:off x="75960" y="1302840"/>
            <a:ext cx="8381880" cy="527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Pueblo, 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ation:  Active (Scheduled for clo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pons Sto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of the United States’ original chemical stockp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ed into a chemical stockpile in 194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ical-agent destruction plant is under co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Chemical Weapons</a:t>
            </a:r>
            <a:endParaRPr b="0" lang="en-US" sz="36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ve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ter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king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chemical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ot Control/Training ag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304560" y="304920"/>
            <a:ext cx="8458200" cy="6324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We have the ability to make and use chemicals and poisonous gas. And those gases and poisons are made of the simplest ingredients, which are available in the pharmacies and we could, as well, smuggle them from one country to another if needed. And this is for use against vital institutions and residential populations."</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 Ramzi Yous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23" name="PlaceHolder 2"/>
          <p:cNvSpPr>
            <a:spLocks noGrp="1"/>
          </p:cNvSpPr>
          <p:nvPr>
            <p:ph/>
          </p:nvPr>
        </p:nvSpPr>
        <p:spPr>
          <a:xfrm>
            <a:off x="228600" y="1294920"/>
            <a:ext cx="5392800" cy="4830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Seri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un (GA)</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in (GB)</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an (GD)</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yclosarin </a:t>
            </a:r>
            <a:r>
              <a:rPr b="0" lang="en-US" sz="3200" spc="-1" strike="noStrike">
                <a:solidFill>
                  <a:srgbClr val="000000"/>
                </a:solidFill>
                <a:latin typeface="Arial"/>
              </a:rPr>
              <a:t>(GF)</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Seri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X, VE, VM,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 Series</a:t>
            </a:r>
            <a:endParaRPr b="0" lang="en-US" sz="4000" spc="-1" strike="noStrike">
              <a:solidFill>
                <a:srgbClr val="000000"/>
              </a:solidFill>
              <a:latin typeface="Arial"/>
            </a:endParaRPr>
          </a:p>
        </p:txBody>
      </p:sp>
      <p:sp>
        <p:nvSpPr>
          <p:cNvPr id="125" name="PlaceHolder 2"/>
          <p:cNvSpPr>
            <a:spLocks noGrp="1"/>
          </p:cNvSpPr>
          <p:nvPr>
            <p:ph/>
          </p:nvPr>
        </p:nvSpPr>
        <p:spPr>
          <a:xfrm>
            <a:off x="3049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ticide-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aled or absorbed by sk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ersistent (volatile g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thickening agent to increase effectiven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 Serie</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127" name="PlaceHolder 2"/>
          <p:cNvSpPr>
            <a:spLocks noGrp="1"/>
          </p:cNvSpPr>
          <p:nvPr>
            <p:ph/>
          </p:nvPr>
        </p:nvSpPr>
        <p:spPr>
          <a:xfrm>
            <a:off x="380520" y="1218960"/>
            <a:ext cx="861084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for ‘venom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liqu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y, odorless, tasteless, looks like motor o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br>
              <a:rPr sz="3600"/>
            </a:br>
            <a:r>
              <a:rPr b="0" lang="en-US" sz="3600" spc="-1" strike="noStrike">
                <a:solidFill>
                  <a:srgbClr val="000000"/>
                </a:solidFill>
                <a:latin typeface="Arial"/>
              </a:rPr>
              <a:t>Common Effects and Symptoms</a:t>
            </a:r>
            <a:endParaRPr b="0" lang="en-US" sz="3600" spc="-1" strike="noStrike">
              <a:solidFill>
                <a:srgbClr val="000000"/>
              </a:solidFill>
              <a:latin typeface="Arial"/>
            </a:endParaRPr>
          </a:p>
        </p:txBody>
      </p:sp>
      <p:sp>
        <p:nvSpPr>
          <p:cNvPr id="129" name="PlaceHolder 2"/>
          <p:cNvSpPr>
            <a:spLocks noGrp="1"/>
          </p:cNvSpPr>
          <p:nvPr>
            <p:ph/>
          </p:nvPr>
        </p:nvSpPr>
        <p:spPr>
          <a:xfrm>
            <a:off x="380880" y="1523520"/>
            <a:ext cx="822960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osis (constriction of pupils) and visual eff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ada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sal cong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li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ightness in the ch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omi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ddi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xie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609120"/>
            <a:ext cx="82296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fficulty in thi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fficulty slee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ightma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scle t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em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ak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bdominal cra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arrh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voluntary</a:t>
            </a:r>
            <a:r>
              <a:rPr b="0" lang="en-US" sz="2800" spc="-1" strike="noStrike">
                <a:solidFill>
                  <a:srgbClr val="000000"/>
                </a:solidFill>
                <a:latin typeface="Verdana"/>
                <a:ea typeface="Arial"/>
              </a:rPr>
              <a:t> </a:t>
            </a:r>
            <a:r>
              <a:rPr b="0" lang="en-US" sz="2800" spc="-1" strike="noStrike">
                <a:solidFill>
                  <a:srgbClr val="000000"/>
                </a:solidFill>
                <a:latin typeface="Arial"/>
                <a:ea typeface="Arial"/>
              </a:rPr>
              <a:t>urination and defe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32" name="PlaceHolder 2"/>
          <p:cNvSpPr>
            <a:spLocks noGrp="1"/>
          </p:cNvSpPr>
          <p:nvPr>
            <p:ph/>
          </p:nvPr>
        </p:nvSpPr>
        <p:spPr>
          <a:xfrm>
            <a:off x="304920" y="1295280"/>
            <a:ext cx="4419360" cy="4678560"/>
          </a:xfrm>
          <a:prstGeom prst="rect">
            <a:avLst/>
          </a:prstGeom>
          <a:noFill/>
          <a:ln w="0">
            <a:noFill/>
          </a:ln>
        </p:spPr>
        <p:txBody>
          <a:bodyPr anchor="t">
            <a:normAutofit/>
          </a:bodyPr>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Liquid or vapor</a:t>
            </a:r>
            <a:endParaRPr b="0" lang="en-US" sz="24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commercially available</a:t>
            </a:r>
            <a:endParaRPr b="0" lang="en-US" sz="2400" spc="-1" strike="noStrike">
              <a:solidFill>
                <a:srgbClr val="000000"/>
              </a:solidFill>
              <a:latin typeface="Arial"/>
            </a:endParaRPr>
          </a:p>
        </p:txBody>
      </p:sp>
      <p:sp>
        <p:nvSpPr>
          <p:cNvPr id="133" name="Rectangle 6"/>
          <p:cNvSpPr/>
          <p:nvPr/>
        </p:nvSpPr>
        <p:spPr>
          <a:xfrm>
            <a:off x="4933800" y="1295280"/>
            <a:ext cx="4038840" cy="5181840"/>
          </a:xfrm>
          <a:prstGeom prst="rect">
            <a:avLst/>
          </a:prstGeom>
          <a:noFill/>
          <a:ln w="0">
            <a:noFill/>
          </a:ln>
        </p:spPr>
        <p:style>
          <a:lnRef idx="0"/>
          <a:fillRef idx="0"/>
          <a:effectRef idx="0"/>
          <a:fontRef idx="minor"/>
        </p:style>
        <p:txBody>
          <a:bodyPr lIns="90000" rIns="90000" tIns="46800" bIns="46800" anchor="t">
            <a:normAutofit/>
          </a:bodyPr>
          <a:p>
            <a:pPr>
              <a:spcBef>
                <a:spcPts val="25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igns/Symptoms:   </a:t>
            </a:r>
            <a:endParaRPr b="0" lang="en-US" sz="3100" spc="-1" strike="noStrike">
              <a:solidFill>
                <a:srgbClr val="000000"/>
              </a:solidFill>
              <a:latin typeface="Arial"/>
            </a:endParaRPr>
          </a:p>
          <a:p>
            <a:pPr>
              <a:spcBef>
                <a:spcPts val="25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LUDGEM </a:t>
            </a:r>
            <a:endParaRPr b="0" lang="en-US" sz="31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ivation</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rimation or tearing</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tion </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ation</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intestinal disorders</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sis or vomiting</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osis or pin-pointed pupi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35" name="PlaceHolder 2"/>
          <p:cNvSpPr>
            <a:spLocks noGrp="1"/>
          </p:cNvSpPr>
          <p:nvPr>
            <p:ph/>
          </p:nvPr>
        </p:nvSpPr>
        <p:spPr>
          <a:xfrm>
            <a:off x="228600" y="1523880"/>
            <a:ext cx="8610480" cy="5105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s (cholinesterase inhibitors) interfere with C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 with enzyme acetylcholinesterase and creating an excess of acetylcholine which affects the transmission of nerve impuls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58680" y="609120"/>
            <a:ext cx="9067680" cy="6324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Nerve agents the most toxic of known chemical ag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G agents are non-persist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V agents are persist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the G agents can be ‘thickened’ with other materials which will increase their persisten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are volatile and some are non-volatile at room tempera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B is a relatively volatile liquid (thus, non-persisten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28600" y="533160"/>
            <a:ext cx="876312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complete volatilization of sarin (GB): mainly a vapor hazar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X is a relatively non-volatile liquid, and persist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ly a liquid contact haz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 Industrial Chemicals (TICs)</a:t>
            </a:r>
            <a:endParaRPr b="0" lang="en-US" sz="3600" spc="-1" strike="noStrike">
              <a:solidFill>
                <a:srgbClr val="000000"/>
              </a:solidFill>
              <a:latin typeface="Arial"/>
            </a:endParaRPr>
          </a:p>
        </p:txBody>
      </p:sp>
      <p:sp>
        <p:nvSpPr>
          <p:cNvPr id="72" name="PlaceHolder 2"/>
          <p:cNvSpPr>
            <a:spLocks noGrp="1"/>
          </p:cNvSpPr>
          <p:nvPr>
            <p:ph/>
          </p:nvPr>
        </p:nvSpPr>
        <p:spPr>
          <a:xfrm>
            <a:off x="456840" y="1143000"/>
            <a:ext cx="3886200" cy="4525920"/>
          </a:xfrm>
          <a:prstGeom prst="rect">
            <a:avLst/>
          </a:prstGeom>
          <a:noFill/>
          <a:ln w="0">
            <a:noFill/>
          </a:ln>
        </p:spPr>
        <p:txBody>
          <a:bodyPr anchor="t">
            <a:normAutofit/>
          </a:bodyPr>
          <a:p>
            <a:pPr marL="3430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osgene</a:t>
            </a:r>
            <a:endParaRPr b="0" lang="en-US" sz="31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when cooled and under pressur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as when released</a:t>
            </a:r>
            <a:endParaRPr b="0" lang="en-US" sz="2800" spc="-1" strike="noStrike">
              <a:solidFill>
                <a:srgbClr val="000000"/>
              </a:solidFill>
              <a:latin typeface="Arial"/>
            </a:endParaRPr>
          </a:p>
        </p:txBody>
      </p:sp>
      <p:sp>
        <p:nvSpPr>
          <p:cNvPr id="73" name="PlaceHolder 3"/>
          <p:cNvSpPr>
            <a:spLocks noGrp="1"/>
          </p:cNvSpPr>
          <p:nvPr>
            <p:ph/>
          </p:nvPr>
        </p:nvSpPr>
        <p:spPr>
          <a:xfrm>
            <a:off x="4535280" y="1874880"/>
            <a:ext cx="452268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s of entry: Inhalation, ingestion, or absor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807840"/>
            <a:ext cx="8610480" cy="5668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s can be absorbed through any of a victim’s body surfaces.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 y="960120"/>
            <a:ext cx="8991720" cy="5211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ular clothing is penetrated by nerve agents whether they occur in a liquid or vapor for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579240"/>
            <a:ext cx="8610480" cy="5668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 nerve agent could be absorbed through the skin, eyes, mouth and membranes of the nose and through the gastrointestinal tract when eaten with food or wate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route of entry: respiratory trac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28600" y="456840"/>
            <a:ext cx="8763120" cy="5288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no treatment available for a nerve agent victim, the person will likely die of a diminished amount of O</a:t>
            </a:r>
            <a:r>
              <a:rPr b="0" lang="en-US" sz="2800" spc="-1" strike="noStrike" baseline="-25000">
                <a:solidFill>
                  <a:srgbClr val="000000"/>
                </a:solidFill>
                <a:latin typeface="Arial"/>
              </a:rPr>
              <a:t>2</a:t>
            </a:r>
            <a:r>
              <a:rPr b="0" lang="en-US" sz="2800" spc="-1" strike="noStrike">
                <a:solidFill>
                  <a:srgbClr val="000000"/>
                </a:solidFill>
                <a:latin typeface="Arial"/>
              </a:rPr>
              <a:t> in blood and tissues resulting fro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way obstr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 of respiration musc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io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1920" y="579240"/>
            <a:ext cx="8534520" cy="5135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a patient may survive, even after several lethal doses of nerve ag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assisted ventilation provid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rways drai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ropi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60" y="304920"/>
            <a:ext cx="8983800" cy="6324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a very large dose of nerve agent has been acquired quickly, death can occur rapidl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se rate is critic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ily exposure to small doses can be cumulative resulting in symptoms after several day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560" y="304920"/>
            <a:ext cx="8458200" cy="632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ve clothing is required, consisting 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or or SC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RNE suit or full protective clothing (designed to keep gases, vapor, liquids, and solids from any contact with the skin while preventing ingestion or inha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boo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56840"/>
            <a:ext cx="8610480" cy="5668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 vapor is absorbed slowly through the sk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Sarin attacks, Tokyo</a:t>
            </a:r>
            <a:br>
              <a:rPr sz="3600"/>
            </a:br>
            <a:endParaRPr b="0" lang="en-US" sz="4000" spc="-1" strike="noStrike">
              <a:solidFill>
                <a:srgbClr val="000000"/>
              </a:solidFill>
              <a:latin typeface="Arial"/>
            </a:endParaRPr>
          </a:p>
        </p:txBody>
      </p:sp>
      <p:sp>
        <p:nvSpPr>
          <p:cNvPr id="148" name="PlaceHolder 2"/>
          <p:cNvSpPr>
            <a:spLocks noGrp="1"/>
          </p:cNvSpPr>
          <p:nvPr>
            <p:ph/>
          </p:nvPr>
        </p:nvSpPr>
        <p:spPr>
          <a:xfrm>
            <a:off x="152280" y="1189080"/>
            <a:ext cx="8763120" cy="4906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地下鉄サリン事件 </a:t>
            </a:r>
            <a:r>
              <a:rPr b="0" lang="en-US" sz="2800" spc="-1" strike="noStrike">
                <a:solidFill>
                  <a:srgbClr val="000000"/>
                </a:solidFill>
                <a:latin typeface="Arial"/>
              </a:rPr>
              <a:t>(‘subway sarin incident’) was an act of domestic terrorism perpetrated by members of Aum Shinrikyo, March 20, 199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52280" y="380880"/>
            <a:ext cx="8839440" cy="647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Five coordinated attacks: conspirators released sarin gas on several lines of the Tokyo Subw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illed 12, seriously injured 54, created vision problems for nearly a thousand m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6840" y="380880"/>
            <a:ext cx="3886200" cy="4525920"/>
          </a:xfrm>
          <a:prstGeom prst="rect">
            <a:avLst/>
          </a:prstGeom>
          <a:noFill/>
          <a:ln w="0">
            <a:noFill/>
          </a:ln>
        </p:spPr>
        <p:txBody>
          <a:bodyPr anchor="t">
            <a:normAutofit fontScale="98000"/>
          </a:bodyPr>
          <a:p>
            <a:pPr marL="3358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osgene</a:t>
            </a:r>
            <a:endParaRPr b="0" lang="en-US" sz="3100" spc="-1" strike="noStrike">
              <a:solidFill>
                <a:srgbClr val="000000"/>
              </a:solidFill>
              <a:latin typeface="Arial"/>
            </a:endParaRPr>
          </a:p>
          <a:p>
            <a:pPr marL="335880" indent="-3358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Commercially available</a:t>
            </a:r>
            <a:endParaRPr b="0" lang="en-US" sz="2800" spc="-1" strike="noStrike">
              <a:solidFill>
                <a:srgbClr val="000000"/>
              </a:solidFill>
              <a:latin typeface="Arial"/>
            </a:endParaRPr>
          </a:p>
          <a:p>
            <a:pPr marL="335880" indent="-3358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Strong, offensive smell at high concentrations; new-mown hay at low concs.</a:t>
            </a:r>
            <a:endParaRPr b="0" lang="en-US" sz="2800" spc="-1" strike="noStrike">
              <a:solidFill>
                <a:srgbClr val="000000"/>
              </a:solidFill>
              <a:latin typeface="Arial"/>
            </a:endParaRPr>
          </a:p>
        </p:txBody>
      </p:sp>
      <p:sp>
        <p:nvSpPr>
          <p:cNvPr id="75" name="PlaceHolder 2"/>
          <p:cNvSpPr>
            <a:spLocks noGrp="1"/>
          </p:cNvSpPr>
          <p:nvPr>
            <p:ph/>
          </p:nvPr>
        </p:nvSpPr>
        <p:spPr>
          <a:xfrm>
            <a:off x="4635000" y="1036800"/>
            <a:ext cx="428004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Burns or blisters on the skin from liquid exposure; burning of the eyes, difficulty breathing, nausea and dizziness, pulmonary edema after 2-6 hours with heavy expo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280" y="304560"/>
            <a:ext cx="8915400" cy="566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ttack directed against trains passing through Kasumigaseki and Nagatacho, home to the Japanese governmen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ost serious attack in Japan since end of WWI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 Response?</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ims not decontamin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ers did not don appropriate PPE; hence, they also became i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lf-admi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posal of VX</a:t>
            </a:r>
            <a:endParaRPr b="0" lang="en-US" sz="3600" spc="-1" strike="noStrike">
              <a:solidFill>
                <a:srgbClr val="000000"/>
              </a:solidFill>
              <a:latin typeface="Arial"/>
            </a:endParaRPr>
          </a:p>
        </p:txBody>
      </p:sp>
      <p:sp>
        <p:nvSpPr>
          <p:cNvPr id="154" name=""/>
          <p:cNvSpPr txBox="1"/>
          <p:nvPr/>
        </p:nvSpPr>
        <p:spPr>
          <a:xfrm>
            <a:off x="228600" y="1294920"/>
            <a:ext cx="876312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on the US implemented program CHASE (Cut Holes And Sink ‘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is program stockpiles of VX and other agents where put into ships and sunk off of the coast of New Jersey, but due to the dangers this was soon abandon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e agent is eliminated through the use of chemical neutraliz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hydrolization, VX was chemically reduced to a less toxic agent, and was subsequently destroyed.</a:t>
            </a:r>
            <a:endParaRPr b="0" lang="en-US" sz="24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ister Agents (Vesicants)</a:t>
            </a:r>
            <a:endParaRPr b="0" lang="en-US" sz="3600" spc="-1" strike="noStrike">
              <a:solidFill>
                <a:srgbClr val="000000"/>
              </a:solidFill>
              <a:latin typeface="Arial"/>
            </a:endParaRPr>
          </a:p>
        </p:txBody>
      </p:sp>
      <p:sp>
        <p:nvSpPr>
          <p:cNvPr id="156" name="PlaceHolder 2"/>
          <p:cNvSpPr>
            <a:spLocks noGrp="1"/>
          </p:cNvSpPr>
          <p:nvPr>
            <p:ph/>
          </p:nvPr>
        </p:nvSpPr>
        <p:spPr>
          <a:xfrm>
            <a:off x="241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yldichloroarsine (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ite (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yldichloroarsine (M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lewisite Mix (H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enyldichloroarsine (P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ister Agents (Vesicants)</a:t>
            </a:r>
            <a:endParaRPr b="0" lang="en-US" sz="4400" spc="-1" strike="noStrike">
              <a:solidFill>
                <a:srgbClr val="000000"/>
              </a:solidFill>
              <a:latin typeface="Arial"/>
            </a:endParaRPr>
          </a:p>
        </p:txBody>
      </p:sp>
      <p:sp>
        <p:nvSpPr>
          <p:cNvPr id="158" name="PlaceHolder 2"/>
          <p:cNvSpPr>
            <a:spLocks noGrp="1"/>
          </p:cNvSpPr>
          <p:nvPr>
            <p:ph/>
          </p:nvPr>
        </p:nvSpPr>
        <p:spPr>
          <a:xfrm>
            <a:off x="380520" y="1798200"/>
            <a:ext cx="8153640" cy="4907160"/>
          </a:xfrm>
          <a:prstGeom prst="rect">
            <a:avLst/>
          </a:prstGeom>
          <a:noFill/>
          <a:ln w="0">
            <a:noFill/>
          </a:ln>
        </p:spPr>
        <p:txBody>
          <a:bodyPr anchor="t">
            <a:normAutofit/>
          </a:bodyPr>
          <a:p>
            <a:pPr marL="343080" indent="-34308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vapor</a:t>
            </a:r>
            <a:endParaRPr b="0" lang="en-US" sz="2800" spc="-1" strike="noStrike">
              <a:solidFill>
                <a:srgbClr val="000000"/>
              </a:solidFill>
              <a:latin typeface="Arial"/>
            </a:endParaRPr>
          </a:p>
          <a:p>
            <a:pPr marL="343080" indent="-34308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mmercially available</a:t>
            </a:r>
            <a:endParaRPr b="0" lang="en-US" sz="2800" spc="-1" strike="noStrike">
              <a:solidFill>
                <a:srgbClr val="000000"/>
              </a:solidFill>
              <a:latin typeface="Arial"/>
            </a:endParaRPr>
          </a:p>
          <a:p>
            <a:pPr marL="343080" indent="0">
              <a:spcBef>
                <a:spcPts val="2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533520"/>
            <a:ext cx="807696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D (sulfur must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N (nitrogen must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casual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fighting efficiency due to protective gear wor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 to skin, eyes,  lungs</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persis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lfur Mustard, HD </a:t>
            </a:r>
            <a:br>
              <a:rPr sz="3600"/>
            </a:br>
            <a:endParaRPr b="0" lang="en-US" sz="3600" spc="-1" strike="noStrike">
              <a:solidFill>
                <a:srgbClr val="000000"/>
              </a:solidFill>
              <a:latin typeface="Arial"/>
            </a:endParaRPr>
          </a:p>
        </p:txBody>
      </p:sp>
      <p:sp>
        <p:nvSpPr>
          <p:cNvPr id="161" name="PlaceHolder 2"/>
          <p:cNvSpPr>
            <a:spLocks noGrp="1"/>
          </p:cNvSpPr>
          <p:nvPr>
            <p:ph/>
          </p:nvPr>
        </p:nvSpPr>
        <p:spPr>
          <a:xfrm>
            <a:off x="304920" y="14176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s (2-chloroethyl) sulfid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baseline="-25000">
                <a:solidFill>
                  <a:srgbClr val="000000"/>
                </a:solidFill>
                <a:latin typeface="Arial"/>
              </a:rPr>
              <a:t>4</a:t>
            </a:r>
            <a:r>
              <a:rPr b="0" lang="en-US" sz="3200" spc="-1" strike="noStrike">
                <a:solidFill>
                  <a:srgbClr val="000000"/>
                </a:solidFill>
                <a:latin typeface="Arial"/>
              </a:rPr>
              <a:t>H</a:t>
            </a:r>
            <a:r>
              <a:rPr b="0" lang="en-US" sz="3200" spc="-1" strike="noStrike" baseline="-25000">
                <a:solidFill>
                  <a:srgbClr val="000000"/>
                </a:solidFill>
                <a:latin typeface="Arial"/>
              </a:rPr>
              <a:t>8</a:t>
            </a:r>
            <a:r>
              <a:rPr b="0" lang="en-US" sz="3200" spc="-1" strike="noStrike">
                <a:solidFill>
                  <a:srgbClr val="000000"/>
                </a:solidFill>
                <a:latin typeface="Arial"/>
              </a:rPr>
              <a:t>Cl</a:t>
            </a:r>
            <a:r>
              <a:rPr b="0" lang="en-US" sz="3200" spc="-1" strike="noStrike" baseline="-25000">
                <a:solidFill>
                  <a:srgbClr val="000000"/>
                </a:solidFill>
                <a:latin typeface="Arial"/>
              </a:rPr>
              <a:t>2</a:t>
            </a:r>
            <a:r>
              <a:rPr b="0" lang="en-US" sz="3200" spc="-1" strike="noStrike">
                <a:solidFill>
                  <a:srgbClr val="000000"/>
                </a:solidFill>
                <a:latin typeface="Arial"/>
              </a:rPr>
              <a: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1.27 g/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liqu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ty in water: negligi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lting point: 14.4 °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point: 217 °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pressure: 0.11 mm Hg @ 25 °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51920" y="609480"/>
            <a:ext cx="8534520" cy="498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gent HD is H that has been purified through washing and vacuum distillation to reduce sulfur impurit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 supply of sulfur must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on contain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llery she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uni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6840" y="685800"/>
            <a:ext cx="8839080" cy="6019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ster Agents --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ite (L)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large amounts during World War I,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contaminate troops, force enem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ops to wear full protective equipment, reduc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efficienc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28240" y="685440"/>
            <a:ext cx="853452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ar I, many troops out of service for hours, days, weeks,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deaths limited even though exposure to blister agents can be fat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80880" y="380880"/>
            <a:ext cx="3733920" cy="452592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en-US" sz="3100" spc="-1" strike="noStrike">
                <a:solidFill>
                  <a:srgbClr val="000000"/>
                </a:solidFill>
                <a:latin typeface="Arial"/>
              </a:rPr>
              <a:t>Carbon tetrachloride</a:t>
            </a:r>
            <a:r>
              <a:rPr b="0" lang="en-US" sz="3100" spc="-1" strike="noStrike">
                <a:solidFill>
                  <a:srgbClr val="000000"/>
                </a:solidFill>
                <a:latin typeface="Arial"/>
              </a:rPr>
              <a:t>   </a:t>
            </a:r>
            <a:r>
              <a:rPr b="0" lang="en-US" sz="2800" spc="-1" strike="noStrike">
                <a:solidFill>
                  <a:srgbClr val="000000"/>
                </a:solidFill>
                <a:latin typeface="Arial"/>
              </a:rPr>
              <a:t>Key ingredient in Freons (Freon 10, Freon R-11, R-12)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a:t>
            </a:r>
            <a:endParaRPr b="0" lang="en-US" sz="2800" spc="-1" strike="noStrike">
              <a:solidFill>
                <a:srgbClr val="000000"/>
              </a:solidFill>
              <a:latin typeface="Arial"/>
            </a:endParaRPr>
          </a:p>
        </p:txBody>
      </p:sp>
      <p:sp>
        <p:nvSpPr>
          <p:cNvPr id="77" name="PlaceHolder 2"/>
          <p:cNvSpPr>
            <a:spLocks noGrp="1"/>
          </p:cNvSpPr>
          <p:nvPr>
            <p:ph/>
          </p:nvPr>
        </p:nvSpPr>
        <p:spPr>
          <a:xfrm>
            <a:off x="4647960" y="1265400"/>
            <a:ext cx="4343400" cy="4525920"/>
          </a:xfrm>
          <a:prstGeom prst="rect">
            <a:avLst/>
          </a:prstGeom>
          <a:noFill/>
          <a:ln w="0">
            <a:noFill/>
          </a:ln>
        </p:spPr>
        <p:txBody>
          <a:bodyPr anchor="t">
            <a:normAutofit fontScale="92000"/>
          </a:bodyPr>
          <a:p>
            <a:pPr marL="315360" indent="-31536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s of entry: Inhalation, ingestion, or absorption</a:t>
            </a:r>
            <a:endParaRPr b="0" lang="en-US" sz="2800" spc="-1" strike="noStrike">
              <a:solidFill>
                <a:srgbClr val="000000"/>
              </a:solidFill>
              <a:latin typeface="Arial"/>
            </a:endParaRPr>
          </a:p>
          <a:p>
            <a:pPr marL="315360" indent="-31536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Adverse effects on central nervous system and brain, headaches, dizziness, nausea, liver and kidney damage, blurred vision, coma, deat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6840" y="304920"/>
            <a:ext cx="8458200" cy="6400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c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persistent agent retains casualty-producing effects from minutes to day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istence of chemical agents                                         influenced b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ag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terr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id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n-persistent agents dissipate or vaporize rapidly after release, are a short-duration hazar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 y="304920"/>
            <a:ext cx="853452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sistence increases in wooded, rather than open terrain (why is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sistence longer in winter than summ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reat from vapor increases under hot conditions, decreases with cool                       temperatu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evant Properties of </a:t>
            </a:r>
            <a:br>
              <a:rPr sz="3600"/>
            </a:br>
            <a:r>
              <a:rPr b="0" lang="en-US" sz="3600" spc="-1" strike="noStrike">
                <a:solidFill>
                  <a:srgbClr val="000000"/>
                </a:solidFill>
                <a:latin typeface="Arial"/>
              </a:rPr>
              <a:t>Chemical Weapons</a:t>
            </a:r>
            <a:endParaRPr b="0" lang="en-US" sz="3600" spc="-1" strike="noStrike">
              <a:solidFill>
                <a:srgbClr val="000000"/>
              </a:solidFill>
              <a:latin typeface="Arial"/>
            </a:endParaRPr>
          </a:p>
        </p:txBody>
      </p:sp>
      <p:sp>
        <p:nvSpPr>
          <p:cNvPr id="16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a:t>
            </a:r>
            <a:r>
              <a:rPr b="0" lang="en-US" sz="3200" spc="-1" strike="noStrike" baseline="-25000">
                <a:solidFill>
                  <a:srgbClr val="000000"/>
                </a:solidFill>
                <a:latin typeface="Arial"/>
              </a:rPr>
              <a:t>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25000">
                <a:solidFill>
                  <a:srgbClr val="000000"/>
                </a:solidFill>
                <a:latin typeface="Arial"/>
              </a:rPr>
              <a:t>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ra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dens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press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L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5181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persistent on a cold day? </a:t>
            </a:r>
            <a:br>
              <a:rPr sz="2800"/>
            </a:br>
            <a:r>
              <a:rPr b="0" lang="en-US" sz="2800" spc="-1" strike="noStrike">
                <a:solidFill>
                  <a:srgbClr val="000000"/>
                </a:solidFill>
                <a:latin typeface="Arial"/>
              </a:rPr>
              <a:t>A hot day?</a:t>
            </a:r>
            <a:endParaRPr b="0" lang="en-US" sz="2800" spc="-1" strike="noStrike">
              <a:solidFill>
                <a:srgbClr val="000000"/>
              </a:solidFill>
              <a:latin typeface="Arial"/>
            </a:endParaRPr>
          </a:p>
        </p:txBody>
      </p:sp>
      <p:sp>
        <p:nvSpPr>
          <p:cNvPr id="170" name="PlaceHolder 2"/>
          <p:cNvSpPr>
            <a:spLocks noGrp="1"/>
          </p:cNvSpPr>
          <p:nvPr>
            <p:ph/>
          </p:nvPr>
        </p:nvSpPr>
        <p:spPr>
          <a:xfrm>
            <a:off x="457200" y="53352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por pressure, mm H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48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1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por densi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gravi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ity, mg/m</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2,000</a:t>
            </a:r>
            <a:r>
              <a:rPr b="0" lang="en-US" sz="2400" spc="-1" strike="noStrike">
                <a:solidFill>
                  <a:srgbClr val="000000"/>
                </a:solidFill>
                <a:latin typeface="Arial"/>
              </a:rPr>
              <a:t>	</a:t>
            </a:r>
            <a:r>
              <a:rPr b="0" lang="en-US" sz="2400" spc="-1" strike="noStrike">
                <a:solidFill>
                  <a:srgbClr val="000000"/>
                </a:solidFill>
                <a:latin typeface="Arial"/>
              </a:rPr>
              <a:t>6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Straight Connector 2"/>
          <p:cNvSpPr/>
          <p:nvPr/>
        </p:nvSpPr>
        <p:spPr>
          <a:xfrm>
            <a:off x="4952880" y="1143000"/>
            <a:ext cx="266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Straight Connector 6"/>
          <p:cNvSpPr/>
          <p:nvPr/>
        </p:nvSpPr>
        <p:spPr>
          <a:xfrm>
            <a:off x="533520" y="4952880"/>
            <a:ext cx="74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8"/>
          <p:cNvSpPr/>
          <p:nvPr/>
        </p:nvSpPr>
        <p:spPr>
          <a:xfrm>
            <a:off x="387360" y="380880"/>
            <a:ext cx="74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ology</a:t>
            </a:r>
            <a:endParaRPr b="0" lang="en-US" sz="3600" spc="-1" strike="noStrike">
              <a:solidFill>
                <a:srgbClr val="000000"/>
              </a:solidFill>
              <a:latin typeface="Arial"/>
            </a:endParaRPr>
          </a:p>
        </p:txBody>
      </p:sp>
      <p:sp>
        <p:nvSpPr>
          <p:cNvPr id="175" name="PlaceHolder 2"/>
          <p:cNvSpPr>
            <a:spLocks noGrp="1"/>
          </p:cNvSpPr>
          <p:nvPr>
            <p:ph/>
          </p:nvPr>
        </p:nvSpPr>
        <p:spPr>
          <a:xfrm>
            <a:off x="304920" y="1218960"/>
            <a:ext cx="8534160" cy="47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 all persons respond in the same manner to any chemical ag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8600" y="533160"/>
            <a:ext cx="86868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th lewisite (L) and phosgene oxime (CX) are immediately painfu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stard agents may cause little or no pain for hours after exposu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stard (H and HD) is used primarily to bring about delayed casual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28600" y="609120"/>
            <a:ext cx="8686800" cy="579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lfur mustard exposure attacks the skin/eyes/ respiratory tract, but a victim can remain symptom-free for some time after exposur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Blister Agents</a:t>
            </a:r>
            <a:endParaRPr b="0" lang="en-US" sz="4000" spc="-1" strike="noStrike">
              <a:solidFill>
                <a:srgbClr val="000000"/>
              </a:solidFill>
              <a:latin typeface="Arial"/>
            </a:endParaRPr>
          </a:p>
        </p:txBody>
      </p:sp>
      <p:sp>
        <p:nvSpPr>
          <p:cNvPr id="179" name="PlaceHolder 2"/>
          <p:cNvSpPr>
            <a:spLocks noGrp="1"/>
          </p:cNvSpPr>
          <p:nvPr>
            <p:ph/>
          </p:nvPr>
        </p:nvSpPr>
        <p:spPr>
          <a:xfrm>
            <a:off x="228600" y="1066320"/>
            <a:ext cx="8686800" cy="579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of expo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ondition of victim before expos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ffect length of time before symptoms appear and severity of skin blis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0" y="-17640"/>
            <a:ext cx="9144000" cy="685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ng troops have better survival rates in a chemical agent attack than older civilia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talk about terrorism, WMDs, etc. must think of casualties as </a:t>
            </a:r>
            <a:r>
              <a:rPr b="0" lang="en-US" sz="3200" spc="-1" strike="noStrike" u="sng">
                <a:solidFill>
                  <a:srgbClr val="000000"/>
                </a:solidFill>
                <a:uFillTx/>
                <a:latin typeface="Arial"/>
              </a:rPr>
              <a:t>civilians</a:t>
            </a:r>
            <a:r>
              <a:rPr b="0" lang="en-US" sz="3200" spc="-1" strike="noStrike">
                <a:solidFill>
                  <a:srgbClr val="000000"/>
                </a:solidFill>
                <a:latin typeface="Arial"/>
              </a:rPr>
              <a:t> who are likely not going to survive as well as young, fit military troop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and health of a population are some of the factors to consider in assessing reactions to mustard g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80880" y="914400"/>
            <a:ext cx="373392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Freon 10, R-11 and R12 now banned, though carbon tetrachloride still commercially available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Ether or chloroform</a:t>
            </a:r>
            <a:endParaRPr b="0" lang="en-US" sz="28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4572000" y="990720"/>
            <a:ext cx="4075200" cy="4525920"/>
          </a:xfrm>
          <a:prstGeom prst="rect">
            <a:avLst/>
          </a:prstGeom>
          <a:noFill/>
          <a:ln w="0">
            <a:noFill/>
          </a:ln>
        </p:spPr>
        <p:txBody>
          <a:bodyPr anchor="t">
            <a:normAutofit/>
          </a:bodyPr>
          <a:p>
            <a:pPr marL="343080" indent="-34308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carcinogenic in animals; causes mutations in an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80880" y="655560"/>
            <a:ext cx="8229600" cy="58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piratory tract is subject to mustard attacks on the mucous membran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ard gas causes depletion of all elements of bone marrow and temporary blindn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ims may have lengthy psychological problem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ic de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libi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lfur mustard is a known carcinog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ffective medical care exists for persons with mustard agent exposure and les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6555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cino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a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ato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endParaRPr b="0" lang="en-US" sz="4000" spc="-1" strike="noStrike">
              <a:solidFill>
                <a:srgbClr val="000000"/>
              </a:solidFill>
              <a:latin typeface="Arial"/>
            </a:endParaRPr>
          </a:p>
        </p:txBody>
      </p:sp>
      <p:sp>
        <p:nvSpPr>
          <p:cNvPr id="186" name="PlaceHolder 2"/>
          <p:cNvSpPr>
            <a:spLocks noGrp="1"/>
          </p:cNvSpPr>
          <p:nvPr>
            <p:ph/>
          </p:nvPr>
        </p:nvSpPr>
        <p:spPr>
          <a:xfrm>
            <a:off x="0" y="1523520"/>
            <a:ext cx="91440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re is directed toward relieving symptoms and preventing infections in order to promote hea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8" name="PlaceHolder 2"/>
          <p:cNvSpPr>
            <a:spLocks noGrp="1"/>
          </p:cNvSpPr>
          <p:nvPr>
            <p:ph/>
          </p:nvPr>
        </p:nvSpPr>
        <p:spPr>
          <a:xfrm>
            <a:off x="0" y="1219320"/>
            <a:ext cx="8686800" cy="490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onders should understand principles of </a:t>
            </a:r>
            <a:r>
              <a:rPr b="1" lang="en-US" sz="3200" spc="-1" strike="noStrike">
                <a:solidFill>
                  <a:srgbClr val="000000"/>
                </a:solidFill>
                <a:latin typeface="Arial"/>
              </a:rPr>
              <a:t>toxicology</a:t>
            </a:r>
            <a:r>
              <a:rPr b="0" lang="en-US" sz="3200" spc="-1" strike="noStrike">
                <a:solidFill>
                  <a:srgbClr val="000000"/>
                </a:solidFill>
                <a:latin typeface="Arial"/>
              </a:rPr>
              <a:t>, the scientific discipline of the effects, antidotes, detection, and other studies related to pois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 and nitrogen mustar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N-3) are serious conc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stent in the fie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ly s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 the skin/eyes/respiratory tr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t to drugs that may counter such effec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ers must rely on PPE and respirator or SCB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and Decon</a:t>
            </a:r>
            <a:endParaRPr b="0" lang="en-US" sz="4000" spc="-1" strike="noStrike">
              <a:solidFill>
                <a:srgbClr val="000000"/>
              </a:solidFill>
              <a:latin typeface="Arial"/>
            </a:endParaRPr>
          </a:p>
        </p:txBody>
      </p:sp>
      <p:sp>
        <p:nvSpPr>
          <p:cNvPr id="191" name="PlaceHolder 2"/>
          <p:cNvSpPr>
            <a:spLocks noGrp="1"/>
          </p:cNvSpPr>
          <p:nvPr>
            <p:ph/>
          </p:nvPr>
        </p:nvSpPr>
        <p:spPr>
          <a:xfrm>
            <a:off x="457200" y="1295280"/>
            <a:ext cx="830592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ctims contaminated with blister agents create a danger to those around the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staff having contact with contaminated persons must wear full PPE (remember sarin response, Toky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ontamination must be done outdoors to prevent vapor accumulation indo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and Decon</a:t>
            </a:r>
            <a:endParaRPr b="0" lang="en-US" sz="4000" spc="-1" strike="noStrike">
              <a:solidFill>
                <a:srgbClr val="000000"/>
              </a:solidFill>
              <a:latin typeface="Arial"/>
            </a:endParaRPr>
          </a:p>
        </p:txBody>
      </p:sp>
      <p:sp>
        <p:nvSpPr>
          <p:cNvPr id="193" name="PlaceHolder 2"/>
          <p:cNvSpPr>
            <a:spLocks noGrp="1"/>
          </p:cNvSpPr>
          <p:nvPr>
            <p:ph/>
          </p:nvPr>
        </p:nvSpPr>
        <p:spPr>
          <a:xfrm>
            <a:off x="228240" y="1295280"/>
            <a:ext cx="853452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parate contaminated persons from those uncontamin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on should be carried out on equipment and vehicles used to treat or transport victi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Medical Management</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	</a:t>
            </a:r>
            <a:r>
              <a:rPr b="0" lang="en-US" sz="3200" spc="-1" strike="noStrike">
                <a:solidFill>
                  <a:srgbClr val="000000"/>
                </a:solidFill>
                <a:latin typeface="Arial"/>
                <a:ea typeface="MS PGothic"/>
              </a:rPr>
              <a:t>Management is supportiv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	</a:t>
            </a:r>
            <a:r>
              <a:rPr b="0" lang="en-US" sz="3200" spc="-1" strike="noStrike">
                <a:solidFill>
                  <a:srgbClr val="000000"/>
                </a:solidFill>
                <a:latin typeface="Arial"/>
                <a:ea typeface="MS PGothic"/>
              </a:rPr>
              <a:t>The skin lesions should be managed in the same way that a necrotic ulcerated lesion from another cause would be manag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ro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6840" y="914400"/>
            <a:ext cx="3886200" cy="4525920"/>
          </a:xfrm>
          <a:prstGeom prst="rect">
            <a:avLst/>
          </a:prstGeom>
          <a:noFill/>
          <a:ln w="0">
            <a:noFill/>
          </a:ln>
        </p:spPr>
        <p:txBody>
          <a:bodyPr anchor="t">
            <a:normAutofit/>
          </a:bodyPr>
          <a:p>
            <a:pPr marL="3430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hlorine</a:t>
            </a:r>
            <a:endParaRPr b="0" lang="en-US" sz="31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ly availabl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Strong, corrosive smell</a:t>
            </a:r>
            <a:endParaRPr b="0" lang="en-US" sz="2800" spc="-1" strike="noStrike">
              <a:solidFill>
                <a:srgbClr val="000000"/>
              </a:solidFill>
              <a:latin typeface="Arial"/>
            </a:endParaRPr>
          </a:p>
        </p:txBody>
      </p:sp>
      <p:sp>
        <p:nvSpPr>
          <p:cNvPr id="81" name="PlaceHolder 2"/>
          <p:cNvSpPr>
            <a:spLocks noGrp="1"/>
          </p:cNvSpPr>
          <p:nvPr>
            <p:ph/>
          </p:nvPr>
        </p:nvSpPr>
        <p:spPr>
          <a:xfrm>
            <a:off x="4495680" y="1569960"/>
            <a:ext cx="452304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Burns or blisters on the skin from liquid exposure; burning of the eyes, difficulty breathing, nausea and dizziness, pulmonary ed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Agents</a:t>
            </a:r>
            <a:endParaRPr b="0" lang="en-US" sz="4000" spc="-1" strike="noStrike">
              <a:solidFill>
                <a:srgbClr val="000000"/>
              </a:solidFill>
              <a:latin typeface="Arial"/>
            </a:endParaRPr>
          </a:p>
        </p:txBody>
      </p:sp>
      <p:sp>
        <p:nvSpPr>
          <p:cNvPr id="198" name="PlaceHolder 2"/>
          <p:cNvSpPr>
            <a:spLocks noGrp="1"/>
          </p:cNvSpPr>
          <p:nvPr>
            <p:ph/>
          </p:nvPr>
        </p:nvSpPr>
        <p:spPr>
          <a:xfrm>
            <a:off x="5335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sine (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anogen chloride (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cyanide (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od Agents</a:t>
            </a:r>
            <a:endParaRPr b="0" lang="en-US" sz="3600" spc="-1" strike="noStrike">
              <a:solidFill>
                <a:srgbClr val="000000"/>
              </a:solidFill>
              <a:latin typeface="Arial"/>
            </a:endParaRPr>
          </a:p>
        </p:txBody>
      </p:sp>
      <p:sp>
        <p:nvSpPr>
          <p:cNvPr id="200" name="PlaceHolder 2"/>
          <p:cNvSpPr>
            <a:spLocks noGrp="1"/>
          </p:cNvSpPr>
          <p:nvPr>
            <p:ph/>
          </p:nvPr>
        </p:nvSpPr>
        <p:spPr>
          <a:xfrm>
            <a:off x="304920" y="1219320"/>
            <a:ext cx="8534160" cy="490680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ga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ly availabl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Symptoms: Gasping for air, frothing or vomiting, nausea, stupor, coma, and death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s available, but must be delivered immedi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380520"/>
            <a:ext cx="8305920" cy="574524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drogen Cyanid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s transfer of oxygen to t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s gas mask fil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ersis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609480"/>
            <a:ext cx="86868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s by interfering with cell respiration (exchange of O</a:t>
            </a:r>
            <a:r>
              <a:rPr b="0" lang="en-US" sz="2800" spc="-1" strike="noStrike" baseline="-25000">
                <a:solidFill>
                  <a:srgbClr val="000000"/>
                </a:solidFill>
                <a:latin typeface="Arial"/>
              </a:rPr>
              <a:t>2</a:t>
            </a:r>
            <a:r>
              <a:rPr b="0" lang="en-US" sz="2800" spc="-1" strike="noStrike">
                <a:solidFill>
                  <a:srgbClr val="000000"/>
                </a:solidFill>
                <a:latin typeface="Arial"/>
              </a:rPr>
              <a:t> and CO</a:t>
            </a:r>
            <a:r>
              <a:rPr b="0" lang="en-US" sz="2800" spc="-1" strike="noStrike" baseline="-25000">
                <a:solidFill>
                  <a:srgbClr val="000000"/>
                </a:solidFill>
                <a:latin typeface="Arial"/>
              </a:rPr>
              <a:t>2</a:t>
            </a:r>
            <a:r>
              <a:rPr b="0" lang="en-US" sz="2800" spc="-1" strike="noStrike">
                <a:solidFill>
                  <a:srgbClr val="000000"/>
                </a:solidFill>
                <a:latin typeface="Arial"/>
              </a:rPr>
              <a:t> between blood and tiss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anide blocks the use of O</a:t>
            </a:r>
            <a:r>
              <a:rPr b="0" lang="en-US" sz="2800" spc="-1" strike="noStrike" baseline="-25000">
                <a:solidFill>
                  <a:srgbClr val="000000"/>
                </a:solidFill>
                <a:latin typeface="Arial"/>
              </a:rPr>
              <a:t>2</a:t>
            </a:r>
            <a:r>
              <a:rPr b="0" lang="en-US" sz="2800" spc="-1" strike="noStrike">
                <a:solidFill>
                  <a:srgbClr val="000000"/>
                </a:solidFill>
                <a:latin typeface="Arial"/>
              </a:rPr>
              <a:t> in cells, causing asphyxiation in ce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228600" y="380520"/>
            <a:ext cx="8686800" cy="5745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sine (SA) interferes with blood and damages the liver and kidney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vere exposure could cause anemi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sine is a carcinog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28240" y="380880"/>
            <a:ext cx="8458200" cy="559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vapor used, little need for decontamination; if liquid is present, wash skin promptly to remove contamin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U.S. Army Medical Research Institute of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fectious Diseases (USAMRII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228240" y="456840"/>
            <a:ext cx="8458200" cy="5288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yanide liquid is absorbed through the skin can continue to penetrate the bloodstrea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lmonary (Choking) Agents</a:t>
            </a:r>
            <a:endParaRPr b="0" lang="en-US" sz="4000" spc="-1" strike="noStrike">
              <a:solidFill>
                <a:srgbClr val="000000"/>
              </a:solidFill>
              <a:latin typeface="Arial"/>
            </a:endParaRPr>
          </a:p>
        </p:txBody>
      </p:sp>
      <p:sp>
        <p:nvSpPr>
          <p:cNvPr id="207" name="PlaceHolder 2"/>
          <p:cNvSpPr>
            <a:spLocks noGrp="1"/>
          </p:cNvSpPr>
          <p:nvPr>
            <p:ph/>
          </p:nvPr>
        </p:nvSpPr>
        <p:spPr>
          <a:xfrm>
            <a:off x="304920" y="1447920"/>
            <a:ext cx="51638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g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hosg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derately persis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king Agents</a:t>
            </a:r>
            <a:endParaRPr b="0" lang="en-US" sz="4000" spc="-1" strike="noStrike">
              <a:solidFill>
                <a:srgbClr val="000000"/>
              </a:solidFill>
              <a:latin typeface="Arial"/>
            </a:endParaRPr>
          </a:p>
        </p:txBody>
      </p:sp>
      <p:sp>
        <p:nvSpPr>
          <p:cNvPr id="209" name="PlaceHolder 2"/>
          <p:cNvSpPr>
            <a:spLocks noGrp="1"/>
          </p:cNvSpPr>
          <p:nvPr>
            <p:ph/>
          </p:nvPr>
        </p:nvSpPr>
        <p:spPr>
          <a:xfrm>
            <a:off x="228240" y="1371600"/>
            <a:ext cx="8458200" cy="5029200"/>
          </a:xfrm>
          <a:prstGeom prst="rect">
            <a:avLst/>
          </a:prstGeom>
          <a:noFill/>
          <a:ln w="0">
            <a:noFill/>
          </a:ln>
        </p:spPr>
        <p:txBody>
          <a:bodyPr anchor="t">
            <a:normAutofit/>
          </a:bodyPr>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gas</a:t>
            </a:r>
            <a:endParaRPr b="0" lang="en-US" sz="2800" spc="-1" strike="noStrike">
              <a:solidFill>
                <a:srgbClr val="000000"/>
              </a:solidFill>
              <a:latin typeface="Arial"/>
            </a:endParaRPr>
          </a:p>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Commercially available</a:t>
            </a:r>
            <a:endParaRPr b="0" lang="en-US" sz="2800" spc="-1" strike="noStrike">
              <a:solidFill>
                <a:srgbClr val="000000"/>
              </a:solidFill>
              <a:latin typeface="Arial"/>
            </a:endParaRPr>
          </a:p>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Symptoms: Irritation of airway from nose to lungs, pulmonary edema, coughing, skin lesions (if liquid touches skin), heart fail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28240" y="609480"/>
            <a:ext cx="838188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lmonary (choking) agents cause physical injury to the lungs through inhal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s may swell and lungs may become filled with liquid, and, in serious cases, lack of O</a:t>
            </a:r>
            <a:r>
              <a:rPr b="0" lang="en-US" sz="3200" spc="-1" strike="noStrike" baseline="-25000">
                <a:solidFill>
                  <a:srgbClr val="000000"/>
                </a:solidFill>
                <a:latin typeface="Arial"/>
              </a:rPr>
              <a:t>2</a:t>
            </a:r>
            <a:r>
              <a:rPr b="0" lang="en-US" sz="3200" spc="-1" strike="noStrike">
                <a:solidFill>
                  <a:srgbClr val="000000"/>
                </a:solidFill>
                <a:latin typeface="Arial"/>
              </a:rPr>
              <a:t> causes dea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Cs When Used as a Weapon</a:t>
            </a:r>
            <a:endParaRPr b="0" lang="en-US" sz="3600" spc="-1" strike="noStrike">
              <a:solidFill>
                <a:srgbClr val="000000"/>
              </a:solidFill>
              <a:latin typeface="Arial"/>
            </a:endParaRPr>
          </a:p>
        </p:txBody>
      </p:sp>
      <p:sp>
        <p:nvSpPr>
          <p:cNvPr id="83" name="PlaceHolder 2"/>
          <p:cNvSpPr>
            <a:spLocks noGrp="1"/>
          </p:cNvSpPr>
          <p:nvPr>
            <p:ph/>
          </p:nvPr>
        </p:nvSpPr>
        <p:spPr>
          <a:xfrm>
            <a:off x="75960" y="1294920"/>
            <a:ext cx="883908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sands of chemicals can be used as a terrorist weap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y common, commercially-available substances can be used successfully in an act of terror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Liquids, solids, gases</a:t>
            </a:r>
            <a:endParaRPr b="0" lang="en-US" sz="2400" spc="-1" strike="noStrike">
              <a:solidFill>
                <a:srgbClr val="000000"/>
              </a:solidFill>
              <a:latin typeface="Arial"/>
            </a:endParaRPr>
          </a:p>
        </p:txBody>
      </p:sp>
      <p:sp>
        <p:nvSpPr>
          <p:cNvPr id="84" name="Rectangle 6"/>
          <p:cNvSpPr/>
          <p:nvPr/>
        </p:nvSpPr>
        <p:spPr>
          <a:xfrm>
            <a:off x="457200" y="441972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Commercially available and often a ‘sof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560" y="456840"/>
            <a:ext cx="8381880" cy="5668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gene (CG) was big killer in World War I (80% of all chemical fata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gene is a corrosive and highly toxic gas that leads to ‘dry land drowning’ through pulmonary edema which can occur up to 48 hours after exposu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228600" y="380520"/>
            <a:ext cx="8686800" cy="5745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ous skin irritant, produces acute lesions similar to those from frostbite or bur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t>
            </a:r>
            <a:r>
              <a:rPr b="0" lang="en-US" sz="2800" spc="-1" strike="noStrike" baseline="-25000">
                <a:solidFill>
                  <a:srgbClr val="000000"/>
                </a:solidFill>
                <a:latin typeface="Arial"/>
              </a:rPr>
              <a:t>(aq)</a:t>
            </a:r>
            <a:r>
              <a:rPr b="0" lang="en-US" sz="2800" spc="-1" strike="noStrike">
                <a:solidFill>
                  <a:srgbClr val="000000"/>
                </a:solidFill>
                <a:latin typeface="Arial"/>
              </a:rPr>
              <a:t> and CO form through its decomposi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al decomposition releases toxic and/or hazardous gas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ychochemical Agents</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apacitating a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ed by food/water or aeros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rmanent injury, </a:t>
            </a:r>
            <a:r>
              <a:rPr b="0" i="1" lang="en-US" sz="2800" spc="-1" strike="noStrike">
                <a:solidFill>
                  <a:srgbClr val="000000"/>
                </a:solidFill>
                <a:latin typeface="Arial"/>
              </a:rPr>
              <a:t>lasts for da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persistent in food/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n-persistent in vap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ot Control</a:t>
            </a:r>
            <a:endParaRPr b="0" lang="en-US" sz="40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eth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ry incapacitation without permanent harm (&lt;2h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irritant to mucous membra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 gas (solid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r gas or vomit g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rorist Use of Chemical Agents: </a:t>
            </a:r>
            <a:r>
              <a:rPr b="0" lang="en-US" sz="3200" spc="-1" strike="noStrike">
                <a:solidFill>
                  <a:srgbClr val="000000"/>
                </a:solidFill>
                <a:latin typeface="Arial"/>
              </a:rPr>
              <a:t>Exposure, Dissemination, Character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0" y="457200"/>
            <a:ext cx="9144000" cy="6400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hemical weapons work ‘optimally’ when used against untrained people and unprotected targe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emical </a:t>
            </a:r>
            <a:r>
              <a:rPr b="0" i="1" lang="en-US" sz="2800" spc="-1" strike="noStrike">
                <a:solidFill>
                  <a:srgbClr val="000000"/>
                </a:solidFill>
                <a:latin typeface="Arial"/>
              </a:rPr>
              <a:t>warfare</a:t>
            </a:r>
            <a:r>
              <a:rPr b="0" lang="en-US" sz="2800" spc="-1" strike="noStrike">
                <a:solidFill>
                  <a:srgbClr val="000000"/>
                </a:solidFill>
                <a:latin typeface="Arial"/>
              </a:rPr>
              <a:t> attacks, by their very nature, seriously affect warfare effect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mora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effici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form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s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agents are distribu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ay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m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c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supplies/reservoi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0" y="304560"/>
            <a:ext cx="9144000" cy="65530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dicators of a Possible Chemical Inciden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d animals: numerous animals (wild, domestic, small, large), birds and fish in same ar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insect life:  If normal insect activity (ground, air, water) missing, check ground, water, shoreline etc. for dead insec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60" y="609480"/>
            <a:ext cx="8915400" cy="655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ar water: check for dead fish, aquat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9:48:54Z</dcterms:created>
  <dc:creator>Computing Services</dc:creator>
  <dc:description/>
  <dc:language>en-US</dc:language>
  <cp:lastModifiedBy>Pichtel, John</cp:lastModifiedBy>
  <dcterms:modified xsi:type="dcterms:W3CDTF">2015-09-29T13:22:33Z</dcterms:modified>
  <cp:revision>152</cp:revision>
  <dc:subject/>
  <dc:title>CHEMICAL WEAPONS DENIED</dc:title>
</cp:coreProperties>
</file>